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D22A7-BD42-48B6-8B80-42DE15C21AE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8320" y="763560"/>
            <a:ext cx="5495760" cy="3772080"/>
          </a:xfrm>
          <a:prstGeom prst="rect">
            <a:avLst/>
          </a:prstGeom>
          <a:ln w="0">
            <a:noFill/>
          </a:ln>
        </p:spPr>
      </p:sp>
      <p:sp>
        <p:nvSpPr>
          <p:cNvPr id="167"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3AE2B-0B0B-42E9-B9C7-400A4FFC8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49A4-206C-48F2-B191-A1434FF0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EFE15-610A-423E-9A9C-094D2EDE7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55822-18C2-4FA1-813C-4A1B60B4A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50E50-FD15-4BDD-A4D5-5820ED853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48742-9B58-4530-98CE-529F7BEFE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432CC-7E6F-49C4-B078-34A0F8485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628CF-0B8A-4B01-87A1-218B4DB12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959B9-C245-43BC-B476-9E637D06F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80937-AFF1-445D-860B-63DB3492B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9C6B9-133A-459A-90F2-4935CD782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F41AE-CFE4-4D85-A605-64BD8188C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6767F-B3E0-47F2-A512-16333A9D3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BD258-5A47-4656-AD04-8DBA03992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C068F-058D-4D4E-9FDE-141CB3E33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1FC13-5276-480E-B9BD-DC93C9526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20016-D09C-4679-91C7-BEFF3767B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FD7E23-B739-42C5-B852-69F1E42692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9F4CF-5488-4772-B063-C7D12B4CD1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07E54-311A-48E4-8D5F-307EBC9B3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81508-D274-4536-9F9B-6E63159EA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B791E-9A64-47CC-B387-29F27E4C8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612BD-B620-4BCF-B98A-883D486A5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1DC38-DAF6-4EC2-B399-0155C5A35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B2DA5-67A0-42F6-9367-12ECDEF0E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BF5ED-C71D-4B1D-8A70-A8D4685BF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68734-8A0E-4199-B901-E26DBE5F8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171FF-BE01-4731-9DD0-13F74553A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A777D-D429-40EF-8DC1-CE070B5E2F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A5736C-FF99-4D54-85B9-EFCBC2E839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5A34-013B-42F6-9318-0B84E5D5B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A3BF-B330-4E0C-AA13-4C5A77CF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8AE12-BF3E-4FEB-A1FB-A78DFDFF5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2CA43-D753-46C8-B6D4-46E92212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7CA23-C43E-4CBB-A8BE-4940EB26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B90B-C14B-41CB-A43C-6A14DB67F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05A3C5-E697-4904-8651-39745A6BD93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19C83-4D85-48D9-BCA2-1348600D5E7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94ADB-78AA-4132-BD1D-9C711C6C7B9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1: Background</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6"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58"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60" name="" descr=""/>
          <p:cNvPicPr/>
          <p:nvPr/>
        </p:nvPicPr>
        <p:blipFill>
          <a:blip r:embed="rId2"/>
          <a:stretch/>
        </p:blipFill>
        <p:spPr>
          <a:xfrm>
            <a:off x="1143000" y="1371600"/>
            <a:ext cx="8001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62"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63"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1</a:t>
            </a:r>
            <a:endParaRPr b="0" lang="en-US" sz="3900" spc="-1" strike="noStrike">
              <a:solidFill>
                <a:srgbClr val="000080"/>
              </a:solidFill>
              <a:latin typeface="Times New Roman"/>
            </a:endParaRPr>
          </a:p>
        </p:txBody>
      </p:sp>
      <p:sp>
        <p:nvSpPr>
          <p:cNvPr id="165" name="PlaceHolder 2"/>
          <p:cNvSpPr>
            <a:spLocks noGrp="1"/>
          </p:cNvSpPr>
          <p:nvPr>
            <p:ph/>
          </p:nvPr>
        </p:nvSpPr>
        <p:spPr>
          <a:xfrm>
            <a:off x="502920" y="1768320"/>
            <a:ext cx="9070920" cy="519768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9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1. What were Harriet’s feelings about her life before she was six years old and afte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2. What might have motivated Harriet’s mistress to bequeathing Harriet as a slave to her five-year-old niece?</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at might be some of the reasons that Dr. Flint was so attracted to Harriet?</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4. What kind of woman is Harriet’s grandmother and what effect does she have on the family?</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at effect does slavery have on the lives of the slave holders and wh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s (Linda Brent)</a:t>
            </a:r>
            <a:endParaRPr b="0" lang="en-US" sz="3900" spc="-1" strike="noStrike">
              <a:solidFill>
                <a:srgbClr val="000080"/>
              </a:solidFill>
              <a:latin typeface="Times New Roman"/>
            </a:endParaRPr>
          </a:p>
        </p:txBody>
      </p:sp>
      <p:sp>
        <p:nvSpPr>
          <p:cNvPr id="134" name="PlaceHolder 2"/>
          <p:cNvSpPr>
            <a:spLocks noGrp="1"/>
          </p:cNvSpPr>
          <p:nvPr>
            <p:ph/>
          </p:nvPr>
        </p:nvSpPr>
        <p:spPr>
          <a:xfrm>
            <a:off x="5151600" y="1768320"/>
            <a:ext cx="4425840" cy="4816800"/>
          </a:xfrm>
          <a:prstGeom prst="rect">
            <a:avLst/>
          </a:prstGeom>
          <a:noFill/>
          <a:ln w="0">
            <a:noFill/>
          </a:ln>
        </p:spPr>
        <p:txBody>
          <a:bodyPr lIns="0" rIns="0" tIns="15120" bIns="0" anchor="t">
            <a:normAutofit fontScale="98000"/>
          </a:bodyPr>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80"/>
                </a:solidFill>
                <a:latin typeface="Times New Roman"/>
                <a:ea typeface="AGaramond;AGaramond"/>
              </a:rPr>
              <a:t>Incidents in the Life of a Slave Girl, </a:t>
            </a:r>
            <a:r>
              <a:rPr b="0" lang="en-US" sz="2400" spc="-1" strike="noStrike">
                <a:solidFill>
                  <a:srgbClr val="000080"/>
                </a:solidFill>
                <a:latin typeface="Times New Roman"/>
                <a:ea typeface="AGaramond;AGaramond"/>
              </a:rPr>
              <a:t>written by Harriet Jacobs (1813-1897) using the pseudonym Linda Brent, is the most widely read female slave narrative in American history.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In her account Jacobs details the sexual harassment and abuse she suffered as a female slave in Edenton, NC and her eventual escape.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Ultimately her story is one of triumph and spirit.</a:t>
            </a:r>
            <a:endParaRPr b="0" lang="en-US" sz="2400" spc="-1" strike="noStrike">
              <a:solidFill>
                <a:srgbClr val="000000"/>
              </a:solidFill>
              <a:latin typeface="Times New Roman"/>
            </a:endParaRPr>
          </a:p>
        </p:txBody>
      </p:sp>
      <p:pic>
        <p:nvPicPr>
          <p:cNvPr id="135" name="" descr=""/>
          <p:cNvPicPr/>
          <p:nvPr/>
        </p:nvPicPr>
        <p:blipFill>
          <a:blip r:embed="rId2"/>
          <a:stretch/>
        </p:blipFill>
        <p:spPr>
          <a:xfrm>
            <a:off x="768240" y="1371600"/>
            <a:ext cx="3803760" cy="562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7" name="PlaceHolder 2"/>
          <p:cNvSpPr>
            <a:spLocks noGrp="1"/>
          </p:cNvSpPr>
          <p:nvPr>
            <p:ph/>
          </p:nvPr>
        </p:nvSpPr>
        <p:spPr>
          <a:xfrm>
            <a:off x="456840" y="1514160"/>
            <a:ext cx="9070920" cy="4530600"/>
          </a:xfrm>
          <a:prstGeom prst="rect">
            <a:avLst/>
          </a:prstGeom>
          <a:noFill/>
          <a:ln w="0">
            <a:noFill/>
          </a:ln>
        </p:spPr>
        <p:txBody>
          <a:bodyPr lIns="0" rIns="0" tIns="1404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80"/>
                </a:solidFill>
                <a:latin typeface="Times New Roman"/>
              </a:rPr>
              <a:t>The real names of the people described in </a:t>
            </a:r>
            <a:r>
              <a:rPr b="0" i="1" lang="en-US" sz="2200" spc="-1" strike="noStrike">
                <a:solidFill>
                  <a:srgbClr val="000080"/>
                </a:solidFill>
                <a:latin typeface="Times New Roman"/>
              </a:rPr>
              <a:t>Incidents in the</a:t>
            </a:r>
            <a:r>
              <a:rPr b="0" lang="en-US" sz="2200" spc="-1" strike="noStrike">
                <a:solidFill>
                  <a:srgbClr val="000080"/>
                </a:solidFill>
                <a:latin typeface="Times New Roman"/>
              </a:rPr>
              <a:t> </a:t>
            </a:r>
            <a:r>
              <a:rPr b="0" i="1" lang="en-US" sz="2200" spc="-1" strike="noStrike">
                <a:solidFill>
                  <a:srgbClr val="000080"/>
                </a:solidFill>
                <a:latin typeface="Times New Roman"/>
              </a:rPr>
              <a:t>Life of a Slave Girl:</a:t>
            </a:r>
            <a:endParaRPr b="0" lang="en-US" sz="2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Linda Brent—</a:t>
            </a:r>
            <a:r>
              <a:rPr b="0" lang="en-US" sz="2000" spc="-1" strike="noStrike">
                <a:solidFill>
                  <a:srgbClr val="000080"/>
                </a:solidFill>
                <a:latin typeface="Times New Roman"/>
                <a:ea typeface="AGaramond;AGaramond"/>
              </a:rPr>
              <a:t>Harriet Ann Jacobs (1813-1897), born a slave in Edenton, NC, she eventually escaped to the North and gained her freedom. She wrote her autobiography using the pseudonym of Linda Brent in 1861; later she worked as a reformer and activist. </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Aunt Martha—</a:t>
            </a:r>
            <a:r>
              <a:rPr b="0" lang="en-US" sz="2000" spc="-1" strike="noStrike">
                <a:solidFill>
                  <a:srgbClr val="000080"/>
                </a:solidFill>
                <a:latin typeface="Times New Roman"/>
                <a:ea typeface="AGaramond;AGaramond"/>
              </a:rPr>
              <a:t>Molly Horniblow, Harriet’s grandmother, made a living selling baked goods to black and white townspeople. She purchased the freedom of her son Phillip and eventually became free at the age of 50 due to the kindness of an elderly white woman.</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 Sands—</a:t>
            </a:r>
            <a:r>
              <a:rPr b="0" lang="en-US" sz="2000" spc="-1" strike="noStrike">
                <a:solidFill>
                  <a:srgbClr val="000080"/>
                </a:solidFill>
                <a:latin typeface="Times New Roman"/>
                <a:ea typeface="AGaramond;AGaramond"/>
              </a:rPr>
              <a:t>Samuel Treadwell Sawyer was a white, unmarried lawyer and the father of Harriet’s two children. He was later elected to the United States House of Representatives.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9" name="PlaceHolder 2"/>
          <p:cNvSpPr>
            <a:spLocks noGrp="1"/>
          </p:cNvSpPr>
          <p:nvPr>
            <p:ph/>
          </p:nvPr>
        </p:nvSpPr>
        <p:spPr>
          <a:xfrm>
            <a:off x="301320" y="1371240"/>
            <a:ext cx="9070920" cy="5257800"/>
          </a:xfrm>
          <a:prstGeom prst="rect">
            <a:avLst/>
          </a:prstGeom>
          <a:noFill/>
          <a:ln w="0">
            <a:noFill/>
          </a:ln>
        </p:spPr>
        <p:txBody>
          <a:bodyPr lIns="0" rIns="0" tIns="1512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Dr Flint—</a:t>
            </a:r>
            <a:r>
              <a:rPr b="0" lang="en-US" sz="2000" spc="-1" strike="noStrike">
                <a:solidFill>
                  <a:srgbClr val="000080"/>
                </a:solidFill>
                <a:latin typeface="Times New Roman"/>
                <a:ea typeface="AGaramond;AGaramond"/>
              </a:rPr>
              <a:t>Dr. James Norcom was Harriet’s slave master. She entere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is household when Harriet was willed to his step-daughter. According to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arriet he owned a residence in town, in addition to several farms, an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about 50 slaves. He pursued Harriet, after she escaped, until his death.</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 </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s. Flint—</a:t>
            </a:r>
            <a:r>
              <a:rPr b="0" lang="en-US" sz="2000" spc="-1" strike="noStrike">
                <a:solidFill>
                  <a:srgbClr val="000080"/>
                </a:solidFill>
                <a:latin typeface="Times New Roman"/>
                <a:ea typeface="AGaramond;AGaramond"/>
              </a:rPr>
              <a:t>Mary Matilda Horniblow Norcom and wife of Dr. James Norcom, was unable to control her husband. Humiliated by his advances towards Harriet, she directed abuse at Harriet.</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Young Mr. Flint—</a:t>
            </a:r>
            <a:r>
              <a:rPr b="0" lang="en-US" sz="2000" spc="-1" strike="noStrike">
                <a:solidFill>
                  <a:srgbClr val="000080"/>
                </a:solidFill>
                <a:latin typeface="Times New Roman"/>
                <a:ea typeface="AGaramond;AGaramond"/>
              </a:rPr>
              <a:t>James Norcom, Jr.</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iss Emily Flint, later Mrs. Dodge—</a:t>
            </a:r>
            <a:r>
              <a:rPr b="0" lang="en-US" sz="2000" spc="-1" strike="noStrike">
                <a:solidFill>
                  <a:srgbClr val="000080"/>
                </a:solidFill>
                <a:latin typeface="Times New Roman"/>
                <a:ea typeface="AGaramond;AGaramond"/>
              </a:rPr>
              <a:t>Dr. Norcom’s daughter Mary Matilda Norcom, later Mrs. Daniel Messmore, traveled to New York with her husband, Messmore, to seize Harriet and her daughter, after her father’s death.</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228600" y="1828800"/>
            <a:ext cx="1371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503280" y="336600"/>
            <a:ext cx="9070920" cy="1262160"/>
          </a:xfrm>
          <a:prstGeom prst="rect">
            <a:avLst/>
          </a:prstGeom>
          <a:noFill/>
          <a:ln w="0">
            <a:noFill/>
          </a:ln>
        </p:spPr>
        <p:style>
          <a:lnRef idx="0"/>
          <a:fillRef idx="0"/>
          <a:effectRef idx="0"/>
          <a:fontRef idx="minor"/>
        </p:style>
        <p:txBody>
          <a:bodyPr lIns="0" rIns="0" tIns="24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ea typeface="Arial Unicode MS"/>
              </a:rPr>
              <a:t>What Do We Already Know?</a:t>
            </a:r>
            <a:br>
              <a:rPr sz="3900"/>
            </a:br>
            <a:r>
              <a:rPr b="0" lang="en-US" sz="3900" spc="-1" strike="noStrike">
                <a:solidFill>
                  <a:srgbClr val="000080"/>
                </a:solidFill>
                <a:latin typeface="Times New Roman"/>
                <a:ea typeface="Arial Unicode MS"/>
              </a:rPr>
              <a:t>History of Slavery in the United States </a:t>
            </a:r>
            <a:endParaRPr b="0" lang="en-US" sz="3900" spc="-1" strike="noStrike">
              <a:solidFill>
                <a:srgbClr val="000000"/>
              </a:solidFill>
              <a:latin typeface="Arial"/>
            </a:endParaRPr>
          </a:p>
        </p:txBody>
      </p:sp>
      <p:sp>
        <p:nvSpPr>
          <p:cNvPr id="142" name=""/>
          <p:cNvSpPr/>
          <p:nvPr/>
        </p:nvSpPr>
        <p:spPr>
          <a:xfrm>
            <a:off x="50328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y more in South?</a:t>
            </a:r>
            <a:endParaRPr b="0" lang="en-US" sz="2400" spc="-1" strike="noStrike">
              <a:solidFill>
                <a:srgbClr val="000000"/>
              </a:solidFill>
              <a:latin typeface="Arial"/>
            </a:endParaRPr>
          </a:p>
        </p:txBody>
      </p:sp>
      <p:sp>
        <p:nvSpPr>
          <p:cNvPr id="143" name=""/>
          <p:cNvSpPr/>
          <p:nvPr/>
        </p:nvSpPr>
        <p:spPr>
          <a:xfrm>
            <a:off x="35701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Did slaves rebel?</a:t>
            </a:r>
            <a:endParaRPr b="0" lang="en-US" sz="2400" spc="-1" strike="noStrike">
              <a:solidFill>
                <a:srgbClr val="000000"/>
              </a:solidFill>
              <a:latin typeface="Arial"/>
            </a:endParaRPr>
          </a:p>
        </p:txBody>
      </p:sp>
      <p:sp>
        <p:nvSpPr>
          <p:cNvPr id="144" name=""/>
          <p:cNvSpPr/>
          <p:nvPr/>
        </p:nvSpPr>
        <p:spPr>
          <a:xfrm>
            <a:off x="66373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at kind of life?</a:t>
            </a:r>
            <a:endParaRPr b="0" lang="en-US" sz="2400" spc="-1" strike="noStrike">
              <a:solidFill>
                <a:srgbClr val="000000"/>
              </a:solidFill>
              <a:latin typeface="Arial"/>
            </a:endParaRPr>
          </a:p>
        </p:txBody>
      </p:sp>
      <p:sp>
        <p:nvSpPr>
          <p:cNvPr id="145" name=""/>
          <p:cNvSpPr/>
          <p:nvPr/>
        </p:nvSpPr>
        <p:spPr>
          <a:xfrm>
            <a:off x="3570120" y="4135320"/>
            <a:ext cx="2921040" cy="2160720"/>
          </a:xfrm>
          <a:prstGeom prst="rect">
            <a:avLst/>
          </a:prstGeom>
          <a:noFill/>
          <a:ln w="0">
            <a:noFill/>
          </a:ln>
        </p:spPr>
        <p:style>
          <a:lnRef idx="0"/>
          <a:fillRef idx="0"/>
          <a:effectRef idx="0"/>
          <a:fontRef idx="minor"/>
        </p:style>
        <p:txBody>
          <a:bodyPr lIns="0" rIns="0" tIns="1404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Times New Roman"/>
                <a:ea typeface="Arial Unicode MS"/>
              </a:rPr>
              <a:t>Fugitive Slave Act 1850</a:t>
            </a:r>
            <a:endParaRPr b="0" lang="en-US" sz="2200" spc="-1" strike="noStrike">
              <a:solidFill>
                <a:srgbClr val="000000"/>
              </a:solidFill>
              <a:latin typeface="Arial"/>
            </a:endParaRPr>
          </a:p>
        </p:txBody>
      </p:sp>
      <p:sp>
        <p:nvSpPr>
          <p:cNvPr id="146" name=""/>
          <p:cNvSpPr/>
          <p:nvPr/>
        </p:nvSpPr>
        <p:spPr>
          <a:xfrm>
            <a:off x="457200" y="411480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bolition Movemen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48" name=""/>
          <p:cNvGraphicFramePr/>
          <p:nvPr/>
        </p:nvGraphicFramePr>
        <p:xfrm>
          <a:off x="503280" y="1768320"/>
          <a:ext cx="9056520" cy="5316480"/>
        </p:xfrm>
        <a:graphic>
          <a:graphicData uri="http://schemas.openxmlformats.org/drawingml/2006/table">
            <a:tbl>
              <a:tblPr/>
              <a:tblGrid>
                <a:gridCol w="7387920"/>
                <a:gridCol w="750960"/>
                <a:gridCol w="917640"/>
              </a:tblGrid>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s life could be pleasant if he/she had a kindly mas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some slaves, living conditions were good, and preferred slavery to living fre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House slaves had better lives than slaves forced to work in the field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omen slaves had better lives than male slav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hite slave holders treated their slaves as servants and respected their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person could have white skin and still be regarded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 owner could be considered a good Christian and still have children with a slave woma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0371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The wives of slave owners accepted that their husbands would have sexual relations with woman slaves, as long as the woman slave's babies were health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50" name=""/>
          <p:cNvGraphicFramePr/>
          <p:nvPr/>
        </p:nvGraphicFramePr>
        <p:xfrm>
          <a:off x="503280" y="1768320"/>
          <a:ext cx="9056520" cy="5316480"/>
        </p:xfrm>
        <a:graphic>
          <a:graphicData uri="http://schemas.openxmlformats.org/drawingml/2006/table">
            <a:tbl>
              <a:tblPr/>
              <a:tblGrid>
                <a:gridCol w="7387920"/>
                <a:gridCol w="750960"/>
                <a:gridCol w="917640"/>
              </a:tblGrid>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Babies who were the children of a slave and her master were adopted by the master or given the master's last 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a slave it was better to surrender to her master than to resist and fight for her personal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who were born into slavery were allowed to stay in the same household as their moth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born into slavery were not sold until after their 13</a:t>
                      </a:r>
                      <a:r>
                        <a:rPr b="0" lang="en-US" sz="1800" spc="-1" strike="noStrike" baseline="33000">
                          <a:solidFill>
                            <a:srgbClr val="000000"/>
                          </a:solidFill>
                          <a:latin typeface="Arial"/>
                        </a:rPr>
                        <a:t>th</a:t>
                      </a:r>
                      <a:r>
                        <a:rPr b="0" lang="en-US" sz="1800" spc="-1" strike="noStrike">
                          <a:solidFill>
                            <a:srgbClr val="000000"/>
                          </a:solidFill>
                          <a:latin typeface="Arial"/>
                        </a:rPr>
                        <a:t> ye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It was impossible to retain one's personal dignity and be be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Slaves who escaped to the North were granted freed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ost white Americans supported the institution of slavery until the Civil W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313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2"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54" name="" descr=""/>
          <p:cNvPicPr/>
          <p:nvPr/>
        </p:nvPicPr>
        <p:blipFill>
          <a:blip r:embed="rId2"/>
          <a:stretch/>
        </p:blipFill>
        <p:spPr>
          <a:xfrm>
            <a:off x="457200" y="1600200"/>
            <a:ext cx="9144000" cy="54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8:12Z</dcterms:modified>
  <cp:revision>14</cp:revision>
  <dc:subject/>
  <dc:title/>
</cp:coreProperties>
</file>