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A67FF-892A-4F2E-8D90-B983EBCB966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8320" y="763560"/>
            <a:ext cx="5495760" cy="3772080"/>
          </a:xfrm>
          <a:prstGeom prst="rect">
            <a:avLst/>
          </a:prstGeom>
          <a:ln w="0">
            <a:noFill/>
          </a:ln>
        </p:spPr>
      </p:sp>
      <p:sp>
        <p:nvSpPr>
          <p:cNvPr id="156"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3154F-3D46-411C-A645-77D1A5521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A047-A0BA-4DE2-8A67-615C611D9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8BE6F-EAE7-4939-BDA2-38FB9FFF7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2A9A6-9010-4B93-A1AD-82A568F85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C8145-7137-4545-9098-6C0CF00F6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224B2-D68E-4201-A03F-E08D97D5A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8E214-0EA5-415E-85EC-11D7F1556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DB0C9-F2F3-46B3-B812-8D8F0EB18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F3F0D-640C-44E0-820C-BAB9A69A1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C98E7-8789-4DCA-8995-5D98EA152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85D35-2CF4-494E-8609-05B649D5A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FEF3-C99D-4956-9A5E-880677276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4628C-3DF0-4A17-9473-A3A47EE93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22F60-8AF7-4F13-A2D4-C3F3DE5FC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5A454-5547-45EC-8F5D-0AE38B0F2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04517-2372-423A-8B65-83B539E02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BB397-A360-4326-B300-93A469CBE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4DB789-7DD2-44F2-9C34-5E4312436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E232A-85A6-4D9C-A716-E6FA6C388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169A3-0AA4-408B-AF88-0C2106D9B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CF5FA-1607-4D06-A21D-B6FBA2ACF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CD1AA-0D2F-4A9C-B5C1-6D069DCC4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F9B9-99C9-4B91-9D8D-F9A1CC0D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B4A62-1309-46C4-BE36-370402957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BF046-A6AD-4D8A-AEAB-E78F8696E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2DF14-BCDE-4B45-BA92-95025FF59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FE421-8FF8-4BC2-A982-9F32E18BB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B24D8-CA0A-4849-9101-DD3865E30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81D2C5-9EFC-47A3-9594-8566A22B03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EEA25F-06F1-4C86-9BE0-680ADAFFAD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B7EC-D307-41C8-AF73-764C61786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6BC0-F487-41EA-AD3E-24E39B1BC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6F587-0312-4B66-82E8-207152E23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8BCA-52C5-4A5C-84B3-1CC53A30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83C57-C4A8-402A-A5DF-97C3CC2F4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9D32-2414-4784-B28B-50AEC1920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F9FE83-031C-45AD-B65F-F2EE154479A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1FD7E1-489B-4F28-A451-BDBA68A30CD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EBED0-20B3-46C0-9842-4BB059468F5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2: Powerful Images as Communication</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2</a:t>
            </a:r>
            <a:endParaRPr b="0" lang="en-US" sz="3900" spc="-1" strike="noStrike">
              <a:solidFill>
                <a:srgbClr val="000080"/>
              </a:solidFill>
              <a:latin typeface="Times New Roman"/>
            </a:endParaRPr>
          </a:p>
        </p:txBody>
      </p:sp>
      <p:sp>
        <p:nvSpPr>
          <p:cNvPr id="154" name="PlaceHolder 2"/>
          <p:cNvSpPr>
            <a:spLocks noGrp="1"/>
          </p:cNvSpPr>
          <p:nvPr>
            <p:ph/>
          </p:nvPr>
        </p:nvSpPr>
        <p:spPr>
          <a:xfrm>
            <a:off x="502920" y="1768320"/>
            <a:ext cx="9070920" cy="50342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0-16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1. Why does Harriet have a sexual relationship with Mr. Sands and not have a relationship with the freed slave whom she lov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2. Do you think that Harriet’s grandmother’s judgment about Harriet’s morals is fai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y does Harriet need her grandmother’s approval so much?</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4. How does the practice of slavery violate Christian principl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y does Harriet work so hard for her master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6. What is the key factor that resolves Harriet to escape from Mr. Flint’s plant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First Impressions</a:t>
            </a:r>
            <a:endParaRPr b="0" lang="en-US" sz="3900" spc="-1" strike="noStrike">
              <a:solidFill>
                <a:srgbClr val="000080"/>
              </a:solidFill>
              <a:latin typeface="Times New Roman"/>
            </a:endParaRPr>
          </a:p>
        </p:txBody>
      </p:sp>
      <p:pic>
        <p:nvPicPr>
          <p:cNvPr id="134" name="" descr=""/>
          <p:cNvPicPr/>
          <p:nvPr/>
        </p:nvPicPr>
        <p:blipFill>
          <a:blip r:embed="rId2"/>
          <a:stretch/>
        </p:blipFill>
        <p:spPr>
          <a:xfrm>
            <a:off x="1371600" y="1371600"/>
            <a:ext cx="2209680" cy="2557440"/>
          </a:xfrm>
          <a:prstGeom prst="rect">
            <a:avLst/>
          </a:prstGeom>
          <a:ln w="0">
            <a:noFill/>
          </a:ln>
        </p:spPr>
      </p:pic>
      <p:pic>
        <p:nvPicPr>
          <p:cNvPr id="135" name="" descr=""/>
          <p:cNvPicPr/>
          <p:nvPr/>
        </p:nvPicPr>
        <p:blipFill>
          <a:blip r:embed="rId3"/>
          <a:stretch/>
        </p:blipFill>
        <p:spPr>
          <a:xfrm>
            <a:off x="6702480" y="1371600"/>
            <a:ext cx="1755720" cy="2557440"/>
          </a:xfrm>
          <a:prstGeom prst="rect">
            <a:avLst/>
          </a:prstGeom>
          <a:ln w="0">
            <a:noFill/>
          </a:ln>
        </p:spPr>
      </p:pic>
      <p:pic>
        <p:nvPicPr>
          <p:cNvPr id="136" name="" descr=""/>
          <p:cNvPicPr/>
          <p:nvPr/>
        </p:nvPicPr>
        <p:blipFill>
          <a:blip r:embed="rId4"/>
          <a:stretch/>
        </p:blipFill>
        <p:spPr>
          <a:xfrm>
            <a:off x="6715080" y="4135320"/>
            <a:ext cx="2200320" cy="2951280"/>
          </a:xfrm>
          <a:prstGeom prst="rect">
            <a:avLst/>
          </a:prstGeom>
          <a:ln w="0">
            <a:noFill/>
          </a:ln>
        </p:spPr>
      </p:pic>
      <p:pic>
        <p:nvPicPr>
          <p:cNvPr id="137" name="" descr=""/>
          <p:cNvPicPr/>
          <p:nvPr/>
        </p:nvPicPr>
        <p:blipFill>
          <a:blip r:embed="rId5"/>
          <a:stretch/>
        </p:blipFill>
        <p:spPr>
          <a:xfrm>
            <a:off x="2048040" y="4135320"/>
            <a:ext cx="2066760" cy="295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Images: Power &amp; Meaning</a:t>
            </a:r>
            <a:endParaRPr b="0" lang="en-US" sz="3900" spc="-1" strike="noStrike">
              <a:solidFill>
                <a:srgbClr val="000080"/>
              </a:solidFill>
              <a:latin typeface="Times New Roman"/>
            </a:endParaRPr>
          </a:p>
        </p:txBody>
      </p:sp>
      <p:sp>
        <p:nvSpPr>
          <p:cNvPr id="139"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mages are able to convey information quickly and evoke deep emotions in their viewers. This power of the image derives from its ability to convey a message all-at-once, as a gestalt or whole chunk of meaning.</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way the brain processses images also contributes to their power: we can see, remember, and be moved by an image that we have not really thought about. It can enter into consciousness below our analytical radar--or be moving too quickly--and continue to influence us from our subconsciousness.</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Images and Propaganda." Media-Studies@ca :: Home. 12 Jan. 2012. Web. 12 Jan. 2012. &lt;http://www.media-studies.ca/articles/images_propaganda.htm&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43" name="" descr=""/>
          <p:cNvPicPr/>
          <p:nvPr/>
        </p:nvPicPr>
        <p:blipFill>
          <a:blip r:embed="rId2"/>
          <a:stretch/>
        </p:blipFill>
        <p:spPr>
          <a:xfrm>
            <a:off x="457200" y="16002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5"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47"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49" name="" descr=""/>
          <p:cNvPicPr/>
          <p:nvPr/>
        </p:nvPicPr>
        <p:blipFill>
          <a:blip r:embed="rId2"/>
          <a:stretch/>
        </p:blipFill>
        <p:spPr>
          <a:xfrm>
            <a:off x="1143000" y="1371600"/>
            <a:ext cx="80010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51"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52"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2T18:25:45Z</dcterms:modified>
  <cp:revision>15</cp:revision>
  <dc:subject/>
  <dc:title/>
</cp:coreProperties>
</file>