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70A68-B800-4D59-B762-D3866BF7C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45305-E6D5-43B1-B1FA-37025A13E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F8949-8729-4352-A826-33A34D8CB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6ACFB-B0B1-4180-A4CB-936894AB6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348A6-33F7-452B-908E-54158FBBE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48AB7-2B8B-4D8C-A1A7-FE315F34D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5ED84-CDD2-4C39-AC78-01659023E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4E698-6531-4D89-AEAA-857718ABA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BA3BD-D229-4043-B086-196339875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B608B-3B21-4E7D-AE56-FD7E5FBE4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7FED7-87A8-464E-963B-F8934AB21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154CC-FA0F-4DE2-A975-571E5D8DD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E296D-0DEE-45AF-8CF2-44D5D4AA2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BC795-B817-42C2-8AB4-5452EA445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07AED-A3D4-4AF4-BF6C-0ED490A1A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1807C-BF3D-44BC-BD1C-8DFB6A5E9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F7900-669E-4730-B820-71784A86F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D169B7-20FE-4826-9694-1E5FEBB520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32C65-D5C2-497B-9700-BFFEBAC11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7CC6E6-8E57-4461-B9B7-762E3427E7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440742-C3F8-4C57-8600-AF4086C6E5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FF1EF3-A74F-4A64-8945-651C856BE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6F492-421D-4F6C-B685-490879B95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879BAA-2100-4B3E-8554-A7B2369063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07260-52D7-4909-914A-D2EA125AA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A17FB-04BE-4986-BE39-F34B66BA2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175B2-DB1C-4982-AF84-C0AAB8023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88D948-A26E-48DA-81D8-EA0E83F61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FAE8D0-A721-4C36-B8AB-536FC89B03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D079B8-AB18-4A2A-BF51-D641A1F28B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9B697-39C8-4DF2-A2E3-4A7058395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234A5-C555-4CFC-8785-8D58F4051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2A037-C9C6-4F73-945B-2E7523F0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7F33-145D-4D3F-98A9-41174BE96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290FD-F33D-4AE9-9DB8-DF1F1E468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110BA-363B-4229-8915-F63CE28A4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88AD2-E127-4D4C-89DC-3EF84A63B0E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D59A6D-0D46-4CB3-8973-C7EE7321CDE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9AA88F-6CDD-4DEF-A70B-C921C98F6CB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averyinamerica.org/walkthru/melrose.htm" TargetMode="External"/><Relationship Id="rId3"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bs.org/wgbh/americanexperience/features/virtual-tour/lincolns-quarters/" TargetMode="External"/><Relationship Id="rId3"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4: What Our Home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Home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a stranger were to walk through your home, what might they learn about your family?</a:t>
            </a:r>
            <a:endParaRPr b="0" lang="en-US" sz="2400" spc="-1" strike="noStrike">
              <a:solidFill>
                <a:srgbClr val="000000"/>
              </a:solidFill>
              <a:latin typeface="Times New Roman"/>
            </a:endParaRPr>
          </a:p>
        </p:txBody>
      </p:sp>
      <p:sp>
        <p:nvSpPr>
          <p:cNvPr id="128"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a stranger were to visit your room, what might they learn about you?</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mes Reflecting Reality</a:t>
            </a:r>
            <a:endParaRPr b="0" lang="en-US" sz="3900" spc="-1" strike="noStrike">
              <a:solidFill>
                <a:srgbClr val="000080"/>
              </a:solidFill>
              <a:latin typeface="Times New Roman"/>
            </a:endParaRPr>
          </a:p>
        </p:txBody>
      </p:sp>
      <p:sp>
        <p:nvSpPr>
          <p:cNvPr id="130"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you visited slave quarters, what do you think you would see?</a:t>
            </a:r>
            <a:endParaRPr b="0" lang="en-US" sz="2400" spc="-1" strike="noStrike">
              <a:solidFill>
                <a:srgbClr val="000000"/>
              </a:solidFill>
              <a:latin typeface="Times New Roman"/>
            </a:endParaRPr>
          </a:p>
        </p:txBody>
      </p:sp>
      <p:sp>
        <p:nvSpPr>
          <p:cNvPr id="131"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you were to visit a wealthy southern slave owner's home, what do you think you would see?</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a Southern Estate</a:t>
            </a:r>
            <a:endParaRPr b="0" lang="en-US" sz="3900" spc="-1" strike="noStrike">
              <a:solidFill>
                <a:srgbClr val="000080"/>
              </a:solidFill>
              <a:latin typeface="Times New Roman"/>
            </a:endParaRPr>
          </a:p>
        </p:txBody>
      </p:sp>
      <p:sp>
        <p:nvSpPr>
          <p:cNvPr id="133"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In the middle of the 19th century, Natchez, Mississippi was one of the wealthiest towns in America. </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You will be visiting the historic Melrose House and comparing the homes of rich estate owners to slave quarters.</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5175360" y="1828800"/>
            <a:ext cx="4425840" cy="3218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omparing Lives</a:t>
            </a:r>
            <a:endParaRPr b="0" lang="en-US" sz="3900" spc="-1" strike="noStrike">
              <a:solidFill>
                <a:srgbClr val="000080"/>
              </a:solidFill>
              <a:latin typeface="Times New Roman"/>
            </a:endParaRPr>
          </a:p>
        </p:txBody>
      </p:sp>
      <p:sp>
        <p:nvSpPr>
          <p:cNvPr id="136"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Melrose House – notes &amp; comment</a:t>
            </a:r>
            <a:endParaRPr b="0" lang="en-US" sz="2400" spc="-1" strike="noStrike">
              <a:solidFill>
                <a:srgbClr val="000000"/>
              </a:solidFill>
              <a:latin typeface="Times New Roman"/>
            </a:endParaRPr>
          </a:p>
        </p:txBody>
      </p:sp>
      <p:sp>
        <p:nvSpPr>
          <p:cNvPr id="137"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Slave quarters – notes &amp; comment</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Melrose House</a:t>
            </a:r>
            <a:endParaRPr b="0" lang="en-US" sz="3900" spc="-1" strike="noStrike">
              <a:solidFill>
                <a:srgbClr val="000080"/>
              </a:solidFill>
              <a:latin typeface="Times New Roman"/>
            </a:endParaRPr>
          </a:p>
        </p:txBody>
      </p:sp>
      <p:sp>
        <p:nvSpPr>
          <p:cNvPr id="139" name="PlaceHolder 2"/>
          <p:cNvSpPr>
            <a:spLocks noGrp="1"/>
          </p:cNvSpPr>
          <p:nvPr>
            <p:ph type="subTitle"/>
          </p:nvPr>
        </p:nvSpPr>
        <p:spPr>
          <a:xfrm>
            <a:off x="502920" y="1768320"/>
            <a:ext cx="9070920" cy="453096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ccccff"/>
                </a:solidFill>
                <a:uFillTx/>
                <a:latin typeface="Times New Roman"/>
                <a:hlinkClick r:id="rId2"/>
              </a:rPr>
              <a:t>http://www.slaveryinamerica.org/walkthru/melrose.htm</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Slave quarters</a:t>
            </a:r>
            <a:endParaRPr b="0" lang="en-US" sz="3900" spc="-1" strike="noStrike">
              <a:solidFill>
                <a:srgbClr val="000080"/>
              </a:solidFill>
              <a:latin typeface="Times New Roman"/>
            </a:endParaRPr>
          </a:p>
        </p:txBody>
      </p:sp>
      <p:sp>
        <p:nvSpPr>
          <p:cNvPr id="141" name="PlaceHolder 2"/>
          <p:cNvSpPr>
            <a:spLocks noGrp="1"/>
          </p:cNvSpPr>
          <p:nvPr>
            <p:ph type="subTitle"/>
          </p:nvPr>
        </p:nvSpPr>
        <p:spPr>
          <a:xfrm>
            <a:off x="502920" y="1768320"/>
            <a:ext cx="9070920" cy="4530960"/>
          </a:xfrm>
          <a:prstGeom prst="rect">
            <a:avLst/>
          </a:prstGeom>
          <a:noFill/>
          <a:ln w="0">
            <a:noFill/>
          </a:ln>
        </p:spPr>
        <p:txBody>
          <a:bodyPr lIns="0" rIns="0" tIns="115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ccccff"/>
                </a:solidFill>
                <a:uFillTx/>
                <a:latin typeface="Times New Roman"/>
                <a:hlinkClick r:id="rId2"/>
              </a:rPr>
              <a:t>http://www.pbs.org/wgbh/americanexperience/features/virtual-tour/lincolns-quarters/</a:t>
            </a:r>
            <a:endParaRPr b="0" lang="en-US" sz="18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4</a:t>
            </a:r>
            <a:endParaRPr b="0" lang="en-US" sz="3900" spc="-1" strike="noStrike">
              <a:solidFill>
                <a:srgbClr val="000080"/>
              </a:solidFill>
              <a:latin typeface="Times New Roman"/>
            </a:endParaRPr>
          </a:p>
        </p:txBody>
      </p:sp>
      <p:sp>
        <p:nvSpPr>
          <p:cNvPr id="143" name="PlaceHolder 2"/>
          <p:cNvSpPr>
            <a:spLocks noGrp="1"/>
          </p:cNvSpPr>
          <p:nvPr>
            <p:ph/>
          </p:nvPr>
        </p:nvSpPr>
        <p:spPr>
          <a:xfrm>
            <a:off x="456840" y="914400"/>
            <a:ext cx="9070920" cy="6207120"/>
          </a:xfrm>
          <a:prstGeom prst="rect">
            <a:avLst/>
          </a:prstGeom>
          <a:noFill/>
          <a:ln w="0">
            <a:noFill/>
          </a:ln>
        </p:spPr>
        <p:txBody>
          <a:bodyPr lIns="0" rIns="0" tIns="11520" bIns="0" anchor="t">
            <a:normAutofit fontScale="99000"/>
          </a:bodyPr>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Read chapters 31-41 of </a:t>
            </a:r>
            <a:r>
              <a:rPr b="0" i="1" lang="en-US" sz="1800" spc="-1" strike="noStrike">
                <a:solidFill>
                  <a:srgbClr val="000080"/>
                </a:solidFill>
                <a:latin typeface="Times New Roman"/>
              </a:rPr>
              <a:t>Incidents in the Life of a Slave Girl</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nswer the following questions and hand them in:</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1. Who are the people who support Harriet while she is in Philadelphia and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2. Why is it important to Harriet that she pay her own way to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3. In what condition does Harriet find her daughter? </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4. Why hasn’t Mr. Sands freed Elle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5. What are some of the ways that Harriet’s life in New York is different from her life in North Carolina?</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6. Why do you think that the hotel staff and black servants treated Harriet so meanly when she traveled with the Bruce family to Albany?</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7. Compare and contrast the plight of the poor in England with that of the slave in America. Do you agree with Harriet’s judgment about which group has the worst situatio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8. What does Harriet’s attempt to run an anti-slavery reading room in Rochester say about her character?</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9. Until Mrs. Bruce purchases her freedom, Harriet still feels endangered in New York. Why is she not more protected by society in this northern state? Why are her owners in North Carolina so eager to reclaim her?</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8:14:27Z</dcterms:modified>
  <cp:revision>25</cp:revision>
  <dc:subject/>
  <dc:title/>
</cp:coreProperties>
</file>