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A3BA13-B2DD-438B-8EA1-AFD21F9574B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8320" y="763560"/>
            <a:ext cx="5495760" cy="3772080"/>
          </a:xfrm>
          <a:prstGeom prst="rect">
            <a:avLst/>
          </a:prstGeom>
          <a:ln w="0">
            <a:noFill/>
          </a:ln>
        </p:spPr>
      </p:sp>
      <p:sp>
        <p:nvSpPr>
          <p:cNvPr id="156"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99072-7649-453F-9A95-128ECD26F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776E7-E02F-4734-AF07-ED8C1A61E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FD9EB-87A6-4249-96D8-E4732A09E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265CD-09B2-44E3-A288-09CC822D4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98573-53DD-4C4D-BD45-BA0C51ACF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F291F-ED0A-4BD3-A4C4-9615759FA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2A7B8-38A0-44AA-8272-5A107A5D2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10926-C0FB-43EA-8C83-B2D03264C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61ADC-B3BE-4E5B-8725-23DD0C20B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907D5-0F05-4707-B20B-C147C5A8A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F14B9-5D3A-4D3E-AB18-B5841C5CC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A5CC-F5CB-4C6E-B59C-B0A35D89D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675FE-6733-4B1C-AE1B-E97BE7EA1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3E2ED-967E-488A-893C-3851AF570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336BD-C201-48C4-A737-8D7D8A10C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E5B2E-6E0F-4237-AFAC-304D1444C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8AF91-1C82-4551-962F-0A0D038BA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E37688-FE01-4F56-B6D1-8AD0923480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B5AE1-78FE-4435-BC3E-3B42098DE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F133D-FD0E-4C54-BCFC-8A76C39E9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65ABC-8201-45DD-AA3A-530CE3F7E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35845-4CD0-4A53-9A47-AE3AF5BDB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8E4D5-A168-48D6-8956-006215DFD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ABC7A-FD56-4BAF-ADD1-584781807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CB3C48-FC43-4934-9079-665A602C3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40654-220B-4377-A758-358193FC7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CCA2E-3298-4716-B95F-77403FB1B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18EBF-1C9A-4E4E-85A0-50B995D1D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A95719-76A4-42DA-9D70-C25EACE1CE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E9A544-21F9-49BF-A219-9C0675FE15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7F80D-305B-4F91-A9E3-3A1CD6D6D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F65FD-D4B6-40BE-AE27-005DBA66F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D20C3-9A99-4027-AB71-DCDA95A3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5405-ED34-4C0D-BE44-F02E464A6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3438-D1DF-47FC-91DF-1357433A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59767-30F8-46EB-BBC0-51D86AF4A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EF929-A8EA-4B77-BDD1-7D0B96C2F1F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0EB3C-CC4F-4DE3-97A7-BF22BAD8F7C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DB0A43-5BD6-4553-AE82-7820C79A93C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2: Powerful Images as Communication</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2</a:t>
            </a:r>
            <a:endParaRPr b="0" lang="en-US" sz="3900" spc="-1" strike="noStrike">
              <a:solidFill>
                <a:srgbClr val="000080"/>
              </a:solidFill>
              <a:latin typeface="Times New Roman"/>
            </a:endParaRPr>
          </a:p>
        </p:txBody>
      </p:sp>
      <p:sp>
        <p:nvSpPr>
          <p:cNvPr id="154" name="PlaceHolder 2"/>
          <p:cNvSpPr>
            <a:spLocks noGrp="1"/>
          </p:cNvSpPr>
          <p:nvPr>
            <p:ph/>
          </p:nvPr>
        </p:nvSpPr>
        <p:spPr>
          <a:xfrm>
            <a:off x="502920" y="1768320"/>
            <a:ext cx="9070920" cy="50342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0-16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1. Why does Harriet have a sexual relationship with Mr. Sands and not have a relationship with the freed slave whom she lov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2. Do you think that Harriet’s grandmother’s judgment about Harriet’s morals is fai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y does Harriet need her grandmother’s approval so much?</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4. How does the practice of slavery violate Christian principl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y does Harriet work so hard for her master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6. What is the key factor that resolves Harriet to escape from Mr. Flint’s plantation?</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First Impressions</a:t>
            </a:r>
            <a:endParaRPr b="0" lang="en-US" sz="3900" spc="-1" strike="noStrike">
              <a:solidFill>
                <a:srgbClr val="000080"/>
              </a:solidFill>
              <a:latin typeface="Times New Roman"/>
            </a:endParaRPr>
          </a:p>
        </p:txBody>
      </p:sp>
      <p:pic>
        <p:nvPicPr>
          <p:cNvPr id="134" name="" descr=""/>
          <p:cNvPicPr/>
          <p:nvPr/>
        </p:nvPicPr>
        <p:blipFill>
          <a:blip r:embed="rId2"/>
          <a:stretch/>
        </p:blipFill>
        <p:spPr>
          <a:xfrm>
            <a:off x="1371600" y="1371600"/>
            <a:ext cx="2209680" cy="2557440"/>
          </a:xfrm>
          <a:prstGeom prst="rect">
            <a:avLst/>
          </a:prstGeom>
          <a:ln w="0">
            <a:noFill/>
          </a:ln>
        </p:spPr>
      </p:pic>
      <p:pic>
        <p:nvPicPr>
          <p:cNvPr id="135" name="" descr=""/>
          <p:cNvPicPr/>
          <p:nvPr/>
        </p:nvPicPr>
        <p:blipFill>
          <a:blip r:embed="rId3"/>
          <a:stretch/>
        </p:blipFill>
        <p:spPr>
          <a:xfrm>
            <a:off x="6702480" y="1371600"/>
            <a:ext cx="1755720" cy="2557440"/>
          </a:xfrm>
          <a:prstGeom prst="rect">
            <a:avLst/>
          </a:prstGeom>
          <a:ln w="0">
            <a:noFill/>
          </a:ln>
        </p:spPr>
      </p:pic>
      <p:pic>
        <p:nvPicPr>
          <p:cNvPr id="136" name="" descr=""/>
          <p:cNvPicPr/>
          <p:nvPr/>
        </p:nvPicPr>
        <p:blipFill>
          <a:blip r:embed="rId4"/>
          <a:stretch/>
        </p:blipFill>
        <p:spPr>
          <a:xfrm>
            <a:off x="6715080" y="4135320"/>
            <a:ext cx="2200320" cy="2951280"/>
          </a:xfrm>
          <a:prstGeom prst="rect">
            <a:avLst/>
          </a:prstGeom>
          <a:ln w="0">
            <a:noFill/>
          </a:ln>
        </p:spPr>
      </p:pic>
      <p:pic>
        <p:nvPicPr>
          <p:cNvPr id="137" name="" descr=""/>
          <p:cNvPicPr/>
          <p:nvPr/>
        </p:nvPicPr>
        <p:blipFill>
          <a:blip r:embed="rId5"/>
          <a:stretch/>
        </p:blipFill>
        <p:spPr>
          <a:xfrm>
            <a:off x="2048040" y="4135320"/>
            <a:ext cx="2066760" cy="295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Images: Power &amp; Meaning</a:t>
            </a:r>
            <a:endParaRPr b="0" lang="en-US" sz="3900" spc="-1" strike="noStrike">
              <a:solidFill>
                <a:srgbClr val="000080"/>
              </a:solidFill>
              <a:latin typeface="Times New Roman"/>
            </a:endParaRPr>
          </a:p>
        </p:txBody>
      </p:sp>
      <p:sp>
        <p:nvSpPr>
          <p:cNvPr id="139"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mages are able to convey information quickly and evoke deep emotions in their viewers. This power of the image derives from its ability to convey a message all-at-once, as a gestalt or whole chunk of meaning.</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way the brain processses images also contributes to their power: we can see, remember, and be moved by an image that we have not really thought about. It can enter into consciousness below our analytical radar--or be moving too quickly--and continue to influence us from our subconsciousness.</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Images and Propaganda." Media-Studies@ca :: Home. 12 Jan. 2012. Web. 12 Jan. 2012. &lt;http://www.media-studies.ca/articles/images_propaganda.htm&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43" name="" descr=""/>
          <p:cNvPicPr/>
          <p:nvPr/>
        </p:nvPicPr>
        <p:blipFill>
          <a:blip r:embed="rId2"/>
          <a:stretch/>
        </p:blipFill>
        <p:spPr>
          <a:xfrm>
            <a:off x="457200" y="1600200"/>
            <a:ext cx="914400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5"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47"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49" name="" descr=""/>
          <p:cNvPicPr/>
          <p:nvPr/>
        </p:nvPicPr>
        <p:blipFill>
          <a:blip r:embed="rId2"/>
          <a:stretch/>
        </p:blipFill>
        <p:spPr>
          <a:xfrm>
            <a:off x="1143000" y="1371600"/>
            <a:ext cx="8001000" cy="5257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51"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52"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2T18:25:45Z</dcterms:modified>
  <cp:revision>15</cp:revision>
  <dc:subject/>
  <dc:title/>
</cp:coreProperties>
</file>