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PlaceHolder 1"/>
          <p:cNvSpPr>
            <a:spLocks noGrp="1"/>
          </p:cNvSpPr>
          <p:nvPr>
            <p:ph type="sldImg"/>
          </p:nvPr>
        </p:nvSpPr>
        <p:spPr>
          <a:xfrm>
            <a:off x="1138320" y="763200"/>
            <a:ext cx="5494320" cy="377028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move the slide</a:t>
            </a:r>
            <a:endParaRPr b="0" lang="en-US" sz="3900" spc="-1" strike="noStrike">
              <a:solidFill>
                <a:srgbClr val="000080"/>
              </a:solidFill>
              <a:latin typeface="Times New Roman"/>
            </a:endParaRPr>
          </a:p>
        </p:txBody>
      </p:sp>
      <p:sp>
        <p:nvSpPr>
          <p:cNvPr id="125"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Times New Roman"/>
            </a:endParaRPr>
          </a:p>
        </p:txBody>
      </p:sp>
      <p:sp>
        <p:nvSpPr>
          <p:cNvPr id="127" name="PlaceHolder 4"/>
          <p:cNvSpPr>
            <a:spLocks noGrp="1"/>
          </p:cNvSpPr>
          <p:nvPr>
            <p:ph type="dt" idx="10"/>
          </p:nvPr>
        </p:nvSpPr>
        <p:spPr>
          <a:xfrm>
            <a:off x="4398480" y="-360"/>
            <a:ext cx="3372120" cy="5014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28" name="PlaceHolder 5"/>
          <p:cNvSpPr>
            <a:spLocks noGrp="1"/>
          </p:cNvSpPr>
          <p:nvPr>
            <p:ph type="ftr" idx="11"/>
          </p:nvPr>
        </p:nvSpPr>
        <p:spPr>
          <a:xfrm>
            <a:off x="0" y="9555120"/>
            <a:ext cx="3371760" cy="50184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428111-88F8-4456-92BC-9AA0F40C40D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38320" y="763560"/>
            <a:ext cx="5495760" cy="3772080"/>
          </a:xfrm>
          <a:prstGeom prst="rect">
            <a:avLst/>
          </a:prstGeom>
          <a:ln w="0">
            <a:noFill/>
          </a:ln>
        </p:spPr>
      </p:sp>
      <p:sp>
        <p:nvSpPr>
          <p:cNvPr id="156" name="PlaceHolder 2"/>
          <p:cNvSpPr>
            <a:spLocks noGrp="1"/>
          </p:cNvSpPr>
          <p:nvPr>
            <p:ph type="body"/>
          </p:nvPr>
        </p:nvSpPr>
        <p:spPr>
          <a:xfrm>
            <a:off x="777600" y="4776840"/>
            <a:ext cx="6218280" cy="4525920"/>
          </a:xfrm>
          <a:prstGeom prst="rect">
            <a:avLst/>
          </a:prstGeom>
          <a:noFill/>
          <a:ln w="0">
            <a:noFill/>
          </a:ln>
        </p:spPr>
        <p:txBody>
          <a:bodyPr lIns="0" rIns="0" tIns="230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Unicode MS"/>
              </a:rPr>
              <a:t>Haven, Cyntha. "How Antebellum Artists Used Their Work to Protest Slavery." Stanford News. Stanford University. Web. 12 Jan. 2012. &lt;http://news.stanford.edu/news/2009/february18/artists-slavery-protests-021809.html&gt;.</a:t>
            </a:r>
            <a:endParaRPr b="0" lang="en-US" sz="2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28D89-A780-457C-A061-0EF557A66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8A10B-83E3-4536-8B77-11AB123F4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81470-EB5E-42CA-BC24-07C48BF9D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81FC5-BBCB-475D-999B-B1A9F83A3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6CC618-0F11-4C9A-8068-069A84594E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45279-3B46-4BA7-8456-60F9792ED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F3918-4EEF-4982-A317-CC4A02E15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92BFE-12B5-47C5-9045-3020DFE84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13ACF-5A1E-4D5B-8A54-E4EF97A6E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51AB8-87AC-4718-93EC-9E1A2B000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AD8EC-F784-474A-A503-8B91290A8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1AD01-9CEA-419F-A41F-6B9441131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7BB48-D0AC-4BEE-B167-198FCE798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24B8A-8CE6-4590-AE05-318182D30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85D34-1FFE-4776-A6D5-EA9A720BE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D27076-5E4E-4312-BDA1-68E27EA4F8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F7944B-B394-484F-BFE7-01F57480A3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5A8273-8C41-406E-86E6-A714959F1A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B400B8-E8CF-4170-B230-9B76CCA204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435835-FBB6-4888-9EA5-06AF8EBB89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A914A7-56CE-458F-A229-690A56CBDC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73A925-4301-436B-A0A4-B82B4A6A02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B03ED-8C53-4CF3-B9D4-B99098F2E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2F795C-C3D9-4632-BD77-FD253D1DCA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15437D-4898-4E3A-953E-1F322A42F4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8A8676-3831-45A9-A35D-2EB50D684D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B4867A-8851-47CE-BD6C-65D877FBA5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8B6B7B-45C3-4325-B8D7-D60B7985A3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9043A1-828F-4ADA-866E-D7630F121F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B0131C-6FDA-4770-8570-DDEBEAB09C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F5DCA-4F6E-4BD9-93A6-23D64E459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47BBB-3C5E-407D-BADA-17E69881F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B67DD-D6DB-4172-AA66-0885F4B64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B8899-5AF1-4513-A66A-60801D0FD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C35FD-ABEE-487A-890B-9D4BD65E7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EAB2E-CECF-4238-9E8A-08DE323017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D690EE-BE70-420F-BA4F-CCAB0A26FF94}"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D4469B-9A80-40EB-9495-DA925DD3AE6D}"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AD81ED-3E54-4068-8CA0-E7FB7633E884}"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3.jpeg"/><Relationship Id="rId6" Type="http://schemas.openxmlformats.org/officeDocument/2006/relationships/slideLayout" Target="../slideLayouts/slideLayout3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31"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2: Powerful Images as Communication</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2</a:t>
            </a:r>
            <a:endParaRPr b="0" lang="en-US" sz="3900" spc="-1" strike="noStrike">
              <a:solidFill>
                <a:srgbClr val="000080"/>
              </a:solidFill>
              <a:latin typeface="Times New Roman"/>
            </a:endParaRPr>
          </a:p>
        </p:txBody>
      </p:sp>
      <p:sp>
        <p:nvSpPr>
          <p:cNvPr id="154" name="PlaceHolder 2"/>
          <p:cNvSpPr>
            <a:spLocks noGrp="1"/>
          </p:cNvSpPr>
          <p:nvPr>
            <p:ph/>
          </p:nvPr>
        </p:nvSpPr>
        <p:spPr>
          <a:xfrm>
            <a:off x="502920" y="1768320"/>
            <a:ext cx="9070920" cy="503424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Read chapters 10-16 of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Answer the following questions and hand them in:</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ea typeface="AGaramond;AGaramond"/>
              </a:rPr>
              <a:t>1. Why does Harriet have a sexual relationship with Mr. Sands and not have a relationship with the freed slave whom she loves?</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2. Do you think that Harriet’s grandmother’s judgment about Harriet’s morals is fair?</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3. Why does Harriet need her grandmother’s approval so much?</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4. How does the practice of slavery violate Christian principles?</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5. Why does Harriet work so hard for her masters?</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6. What is the key factor that resolves Harriet to escape from Mr. Flint’s plantation?</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ual Communication: First Impressions</a:t>
            </a:r>
            <a:endParaRPr b="0" lang="en-US" sz="3900" spc="-1" strike="noStrike">
              <a:solidFill>
                <a:srgbClr val="000080"/>
              </a:solidFill>
              <a:latin typeface="Times New Roman"/>
            </a:endParaRPr>
          </a:p>
        </p:txBody>
      </p:sp>
      <p:pic>
        <p:nvPicPr>
          <p:cNvPr id="134" name="" descr=""/>
          <p:cNvPicPr/>
          <p:nvPr/>
        </p:nvPicPr>
        <p:blipFill>
          <a:blip r:embed="rId2"/>
          <a:stretch/>
        </p:blipFill>
        <p:spPr>
          <a:xfrm>
            <a:off x="1371600" y="1371600"/>
            <a:ext cx="2209680" cy="2557440"/>
          </a:xfrm>
          <a:prstGeom prst="rect">
            <a:avLst/>
          </a:prstGeom>
          <a:ln w="0">
            <a:noFill/>
          </a:ln>
        </p:spPr>
      </p:pic>
      <p:pic>
        <p:nvPicPr>
          <p:cNvPr id="135" name="" descr=""/>
          <p:cNvPicPr/>
          <p:nvPr/>
        </p:nvPicPr>
        <p:blipFill>
          <a:blip r:embed="rId3"/>
          <a:stretch/>
        </p:blipFill>
        <p:spPr>
          <a:xfrm>
            <a:off x="6702480" y="1371600"/>
            <a:ext cx="1755720" cy="2557440"/>
          </a:xfrm>
          <a:prstGeom prst="rect">
            <a:avLst/>
          </a:prstGeom>
          <a:ln w="0">
            <a:noFill/>
          </a:ln>
        </p:spPr>
      </p:pic>
      <p:pic>
        <p:nvPicPr>
          <p:cNvPr id="136" name="" descr=""/>
          <p:cNvPicPr/>
          <p:nvPr/>
        </p:nvPicPr>
        <p:blipFill>
          <a:blip r:embed="rId4"/>
          <a:stretch/>
        </p:blipFill>
        <p:spPr>
          <a:xfrm>
            <a:off x="6715080" y="4135320"/>
            <a:ext cx="2200320" cy="2951280"/>
          </a:xfrm>
          <a:prstGeom prst="rect">
            <a:avLst/>
          </a:prstGeom>
          <a:ln w="0">
            <a:noFill/>
          </a:ln>
        </p:spPr>
      </p:pic>
      <p:pic>
        <p:nvPicPr>
          <p:cNvPr id="137" name="" descr=""/>
          <p:cNvPicPr/>
          <p:nvPr/>
        </p:nvPicPr>
        <p:blipFill>
          <a:blip r:embed="rId5"/>
          <a:stretch/>
        </p:blipFill>
        <p:spPr>
          <a:xfrm>
            <a:off x="2048040" y="4135320"/>
            <a:ext cx="2066760" cy="2951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Images: Power &amp; Meaning</a:t>
            </a:r>
            <a:endParaRPr b="0" lang="en-US" sz="3900" spc="-1" strike="noStrike">
              <a:solidFill>
                <a:srgbClr val="000080"/>
              </a:solidFill>
              <a:latin typeface="Times New Roman"/>
            </a:endParaRPr>
          </a:p>
        </p:txBody>
      </p:sp>
      <p:sp>
        <p:nvSpPr>
          <p:cNvPr id="139" name="PlaceHolder 2"/>
          <p:cNvSpPr>
            <a:spLocks noGrp="1"/>
          </p:cNvSpPr>
          <p:nvPr>
            <p:ph/>
          </p:nvPr>
        </p:nvSpPr>
        <p:spPr>
          <a:xfrm>
            <a:off x="502920" y="1768320"/>
            <a:ext cx="907092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Images are able to convey information quickly and evoke deep emotions in their viewers. This power of the image derives from its ability to convey a message all-at-once, as a gestalt or whole chunk of meaning.</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e way the brain processses images also contributes to their power: we can see, remember, and be moved by an image that we have not really thought about. It can enter into consciousness below our analytical radar--or be moving too quickly--and continue to influence us from our subconsciousness.</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000" spc="-1" strike="noStrike">
                <a:solidFill>
                  <a:srgbClr val="000080"/>
                </a:solidFill>
                <a:latin typeface="Times New Roman"/>
              </a:rPr>
              <a:t>"Images and Propaganda." Media-Studies@ca :: Home. 12 Jan. 2012. Web. 12 Jan. 2012. &lt;http://www.media-studies.ca/articles/images_propaganda.htm&gt;.</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ual Communication: Analysis</a:t>
            </a:r>
            <a:br>
              <a:rPr sz="3900"/>
            </a:b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41"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mood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action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details that support the pro-slavery propaganda.  </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br>
              <a:rPr sz="3900"/>
            </a:br>
            <a:r>
              <a:rPr b="0" lang="en-US" sz="3900" spc="-1" strike="noStrike">
                <a:solidFill>
                  <a:srgbClr val="000080"/>
                </a:solidFill>
                <a:latin typeface="Times New Roman"/>
              </a:rPr>
              <a:t>1872</a:t>
            </a:r>
            <a:endParaRPr b="0" lang="en-US" sz="3900" spc="-1" strike="noStrike">
              <a:solidFill>
                <a:srgbClr val="000080"/>
              </a:solidFill>
              <a:latin typeface="Times New Roman"/>
            </a:endParaRPr>
          </a:p>
        </p:txBody>
      </p:sp>
      <p:pic>
        <p:nvPicPr>
          <p:cNvPr id="143" name="" descr=""/>
          <p:cNvPicPr/>
          <p:nvPr/>
        </p:nvPicPr>
        <p:blipFill>
          <a:blip r:embed="rId2"/>
          <a:stretch/>
        </p:blipFill>
        <p:spPr>
          <a:xfrm>
            <a:off x="457200" y="1600200"/>
            <a:ext cx="9144000" cy="5486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Discussion on 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45" name="PlaceHolder 2"/>
          <p:cNvSpPr>
            <a:spLocks noGrp="1"/>
          </p:cNvSpPr>
          <p:nvPr>
            <p:ph/>
          </p:nvPr>
        </p:nvSpPr>
        <p:spPr>
          <a:xfrm>
            <a:off x="502920" y="1768320"/>
            <a:ext cx="9070920" cy="482472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Planters romanticized life on the plantation, often representing themselves as stern but loving parents who had to look after their slaves, who were depicted as childlike and in need of disciplined guida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e plantation as the perfect extended family was a common theme of pro-slavery prints both before and after the Civil War.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is postwar lithograph by the popular firm of Currier and Ives portrayed the slave quarters as a carefree world, basking in the glow of the planter’s benevole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In reality, of course, the harsh life of a slave bore little resemblance to this romanticized image.</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100" spc="-1" strike="noStrike">
                <a:solidFill>
                  <a:srgbClr val="000080"/>
                </a:solidFill>
                <a:latin typeface="Times New Roman"/>
              </a:rPr>
              <a:t>""The Old Plantation Home."" History Matters: The U.S. Survey Course on the Web. Web. 12 Jan. 2012. &lt;http://historymatters.gmu.edu/d/6809&gt;.</a:t>
            </a:r>
            <a:endParaRPr b="0" lang="en-US" sz="11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Visual Communication: Analysis</a:t>
            </a:r>
            <a:br>
              <a:rPr sz="3200"/>
            </a:b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a:t>
            </a:r>
            <a:endParaRPr b="0" lang="en-US" sz="3200" spc="-1" strike="noStrike">
              <a:solidFill>
                <a:srgbClr val="000080"/>
              </a:solidFill>
              <a:latin typeface="Times New Roman"/>
            </a:endParaRPr>
          </a:p>
        </p:txBody>
      </p:sp>
      <p:sp>
        <p:nvSpPr>
          <p:cNvPr id="147" name="PlaceHolder 2"/>
          <p:cNvSpPr>
            <a:spLocks noGrp="1"/>
          </p:cNvSpPr>
          <p:nvPr>
            <p:ph/>
          </p:nvPr>
        </p:nvSpPr>
        <p:spPr>
          <a:xfrm>
            <a:off x="502920" y="1804680"/>
            <a:ext cx="9070920" cy="453060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your first emotional reaction to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painting?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are the emotions of the people in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important cultural clues. </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 </a:t>
            </a:r>
            <a:r>
              <a:rPr b="0" lang="en-US" sz="2800" spc="-1" strike="noStrike">
                <a:solidFill>
                  <a:srgbClr val="000080"/>
                </a:solidFill>
                <a:latin typeface="Times New Roman"/>
              </a:rPr>
              <a:t>1853(sketch)..1861(painting)</a:t>
            </a:r>
            <a:endParaRPr b="0" lang="en-US" sz="2800" spc="-1" strike="noStrike">
              <a:solidFill>
                <a:srgbClr val="000080"/>
              </a:solidFill>
              <a:latin typeface="Times New Roman"/>
            </a:endParaRPr>
          </a:p>
        </p:txBody>
      </p:sp>
      <p:pic>
        <p:nvPicPr>
          <p:cNvPr id="149" name="" descr=""/>
          <p:cNvPicPr/>
          <p:nvPr/>
        </p:nvPicPr>
        <p:blipFill>
          <a:blip r:embed="rId2"/>
          <a:stretch/>
        </p:blipFill>
        <p:spPr>
          <a:xfrm>
            <a:off x="1143000" y="1371600"/>
            <a:ext cx="8001000" cy="5257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336600"/>
            <a:ext cx="9070920" cy="1262160"/>
          </a:xfrm>
          <a:prstGeom prst="rect">
            <a:avLst/>
          </a:prstGeom>
          <a:noFill/>
          <a:ln w="0">
            <a:noFill/>
          </a:ln>
        </p:spPr>
        <p:txBody>
          <a:bodyPr lIns="0" rIns="0" tIns="226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000080"/>
                </a:solidFill>
                <a:latin typeface="Times New Roman"/>
              </a:rPr>
              <a:t>History of Eyre Crowe’s: </a:t>
            </a:r>
            <a:r>
              <a:rPr b="0" i="1" lang="en-US" sz="3600" spc="-1" strike="noStrike">
                <a:solidFill>
                  <a:srgbClr val="000080"/>
                </a:solidFill>
                <a:latin typeface="Times New Roman"/>
              </a:rPr>
              <a:t>In The Richmond Slave Market</a:t>
            </a:r>
            <a:endParaRPr b="0" lang="en-US" sz="3600" spc="-1" strike="noStrike">
              <a:solidFill>
                <a:srgbClr val="000080"/>
              </a:solidFill>
              <a:latin typeface="Times New Roman"/>
            </a:endParaRPr>
          </a:p>
        </p:txBody>
      </p:sp>
      <p:sp>
        <p:nvSpPr>
          <p:cNvPr id="151"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On the morning of March 3, 1853, the little-known English painter Eyre Crowe, who traveled America with author William Makepeace Thackeray, saw an advertisement in Richmond, Va., for a slave auction:</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Fifteen likely negroes to be disposed of between half-past nine and twelve—five men, six women, two boys, and two girls."</a:t>
            </a:r>
            <a:endParaRPr b="0" lang="en-US" sz="2400" spc="-1" strike="noStrike">
              <a:solidFill>
                <a:srgbClr val="000000"/>
              </a:solidFill>
              <a:latin typeface="Times New Roman"/>
            </a:endParaRPr>
          </a:p>
        </p:txBody>
      </p:sp>
      <p:sp>
        <p:nvSpPr>
          <p:cNvPr id="152" name="PlaceHolder 3"/>
          <p:cNvSpPr>
            <a:spLocks noGrp="1"/>
          </p:cNvSpPr>
          <p:nvPr>
            <p:ph/>
          </p:nvPr>
        </p:nvSpPr>
        <p:spPr>
          <a:xfrm>
            <a:off x="5151600" y="1767960"/>
            <a:ext cx="4425840" cy="5761080"/>
          </a:xfrm>
          <a:prstGeom prst="rect">
            <a:avLst/>
          </a:prstGeom>
          <a:noFill/>
          <a:ln w="0">
            <a:noFill/>
          </a:ln>
        </p:spPr>
        <p:txBody>
          <a:bodyPr lIns="0" rIns="0" tIns="15120" bIns="0" anchor="t">
            <a:normAutofit fontScale="96000"/>
          </a:bodyPr>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Although engrossed in his sketching, he attracted attention. No one would bid. The auctioneer finally confronted the artist and asked him how he would like it if someone interrupted his business.</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 </a:t>
            </a:r>
            <a:r>
              <a:rPr b="0" lang="en-US" sz="2400" spc="-1" strike="noStrike">
                <a:solidFill>
                  <a:srgbClr val="000080"/>
                </a:solidFill>
                <a:latin typeface="Times New Roman"/>
                <a:ea typeface="Arial Unicode MS"/>
              </a:rPr>
              <a:t>As Crowe recalled: "This was unanswerable; I got up with the intention of leaving quietly, but, feeling this would savour of flight, I turned round to the now evidently angry crowd of dealers, and said “You may turn me away, but I can recollect all I have seen.”</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80"/>
                </a:solidFill>
                <a:latin typeface="Times New Roman"/>
                <a:ea typeface="Arial Unicode MS"/>
              </a:rPr>
              <a:t>Haven, Cyntha. "How Antebellum Artists Used Their Work to Protest Slavery." Stanford News. Stanford University. Web. 12 Jan. 2012. &lt;http://news.stanford.edu/news/2009/february18/artists-slavery-protests-021809.html&gt;.</a:t>
            </a:r>
            <a:endParaRPr b="0" lang="en-US" sz="11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12T18:25:45Z</dcterms:modified>
  <cp:revision>15</cp:revision>
  <dc:subject/>
  <dc:title/>
</cp:coreProperties>
</file>