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52338-32CD-4FE3-AF41-47E38EF83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56F5-BA12-4937-A426-0109C68EE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2C9B3-D231-40C9-A4DE-55F0A0216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8548F-B13B-421E-82BA-E0D7194F2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C0199-BF0C-4BB3-8E0D-A7D453F31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00F94-4DAE-43D8-BA6F-7C2F2A65F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FE920-61BB-42B3-B0CF-86DBF08E6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02278-A319-4B94-A70B-B9CD41FB1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B8895-8D1E-4BFC-8AA1-80E60F79D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3A6A1-1FBF-4160-ADEE-8AF964A99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B6B53-4C06-4884-BE90-E83D1CE26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100EA-D30C-4BA9-AE83-5B85ABC42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4D3AE-9C0A-4C6C-9E26-E028F8FB1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CB366-215E-4643-9483-160F3C4BA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4FA6B-0ADD-4305-B05C-3EA51EB60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6A523-BB1D-4831-BBAA-AC6FD5000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81681-0799-495B-8E0E-EAEEF217B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E4765-CC0D-4ED3-B349-C91D885F9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1D0DB-9DE9-40C6-BE65-57DB3E4CB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37FD8-8AF9-496E-9E80-12793B359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95548-9BA8-470B-A87B-57723B59B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C9F8A-367C-4654-A6DB-30BD73CFE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E941-1FC5-49F8-9112-4F36CBC5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121B7-20EA-4274-9E1D-92FA6D444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3C544-CFF3-4A00-B37F-0453020C8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DB603-5FCE-44CF-A441-D2F3DA0BE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65CBB-76E8-44CE-8BB0-C4CBEE44F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1EC33-0405-479F-81DB-023F4B87C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A10138-540D-4B2A-A83F-FCBD24D71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244816-011C-439F-8010-A4D60D8C94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42E06-D8F1-435C-B463-A7824662A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6930-D9D7-4A4B-8BCC-FAEB1B079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9B9C-288E-48BA-BDE3-D7BB857D3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6632-9AC4-436A-9B10-1C92A1DA4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F98D-8E65-4000-B145-F2AE6BE5B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B726-7EBD-495E-AE80-684676D41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6EF1B-F2BE-464C-A2E1-90160569EB7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0E7F76-3A5A-4694-AD39-F02595F2B9C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04034-A715-42EB-9D2C-189BD5A28B3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3: What Our Town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3</a:t>
            </a:r>
            <a:endParaRPr b="0" lang="en-US" sz="3900" spc="-1" strike="noStrike">
              <a:solidFill>
                <a:srgbClr val="000080"/>
              </a:solidFill>
              <a:latin typeface="Times New Roman"/>
            </a:endParaRPr>
          </a:p>
        </p:txBody>
      </p:sp>
      <p:sp>
        <p:nvSpPr>
          <p:cNvPr id="150" name="PlaceHolder 2"/>
          <p:cNvSpPr>
            <a:spLocks noGrp="1"/>
          </p:cNvSpPr>
          <p:nvPr>
            <p:ph/>
          </p:nvPr>
        </p:nvSpPr>
        <p:spPr>
          <a:xfrm>
            <a:off x="502920" y="1767960"/>
            <a:ext cx="9070920" cy="49928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7-30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1. Who are all of the people who assist Harriet in her hiding? </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2. What could motivate a white southern person to hide a run-away slave?</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3. What motivated Dr. Flint to search for Harriet so vigorously?</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4. Why does Mr. Sands buy Harriet’s children? Do you think that he will free them or keep them as slaves?</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5. What must it have been like for Harriet to hide so long in the confined space in her grandmother’s shed?</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6. How does Harriet show her strong love for her children during the time of her hiding?</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7. Why do you think it was important to Phillip to provide a funeral and burial for Aunt Nanc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Town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f you were giving a visitor a tour of St. Thomas, what things would you show and point out as being important or meaningful to your family and frien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29" name="" descr=""/>
          <p:cNvPicPr/>
          <p:nvPr/>
        </p:nvPicPr>
        <p:blipFill>
          <a:blip r:embed="rId2"/>
          <a:stretch/>
        </p:blipFill>
        <p:spPr>
          <a:xfrm>
            <a:off x="503280" y="1828800"/>
            <a:ext cx="4425840" cy="4114800"/>
          </a:xfrm>
          <a:prstGeom prst="rect">
            <a:avLst/>
          </a:prstGeom>
          <a:ln w="0">
            <a:noFill/>
          </a:ln>
        </p:spPr>
      </p:pic>
      <p:sp>
        <p:nvSpPr>
          <p:cNvPr id="130" name="PlaceHolder 2"/>
          <p:cNvSpPr>
            <a:spLocks noGrp="1"/>
          </p:cNvSpPr>
          <p:nvPr>
            <p:ph/>
          </p:nvPr>
        </p:nvSpPr>
        <p:spPr>
          <a:xfrm>
            <a:off x="5151600" y="1768320"/>
            <a:ext cx="4425840" cy="4530960"/>
          </a:xfrm>
          <a:prstGeom prst="rect">
            <a:avLst/>
          </a:prstGeom>
          <a:noFill/>
          <a:ln w="0">
            <a:noFill/>
          </a:ln>
        </p:spPr>
        <p:txBody>
          <a:bodyPr lIns="0" rIns="0" tIns="15120" bIns="0" anchor="t">
            <a:normAutofit fontScale="97000"/>
          </a:bodyPr>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does the marker say? What </a:t>
            </a:r>
            <a:r>
              <a:rPr b="0" i="1" lang="en-US" sz="2400" spc="-1" strike="noStrike">
                <a:solidFill>
                  <a:srgbClr val="000080"/>
                </a:solidFill>
                <a:latin typeface="Times New Roman"/>
              </a:rPr>
              <a:t>doesn't </a:t>
            </a:r>
            <a:r>
              <a:rPr b="0" lang="en-US" sz="2400" spc="-1" strike="noStrike">
                <a:solidFill>
                  <a:srgbClr val="000080"/>
                </a:solidFill>
                <a:latin typeface="Times New Roman"/>
              </a:rPr>
              <a:t>it say?</a:t>
            </a:r>
            <a:endParaRPr b="0" lang="en-US" sz="2400" spc="-1" strike="noStrike">
              <a:solidFill>
                <a:srgbClr val="000000"/>
              </a:solidFill>
              <a:latin typeface="Times New Roman"/>
            </a:endParaRPr>
          </a:p>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if a tourist had not read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000" spc="-1" strike="noStrike">
                <a:solidFill>
                  <a:srgbClr val="000080"/>
                </a:solidFill>
                <a:latin typeface="Times New Roman"/>
              </a:rPr>
              <a:t>"2011 July 17 « American History for Travelers." American History for Travelers. Web. 13 Jan. 2012. &lt;http://americanhistory4travelers.wordpress.com/2011/07/17/&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2" name="" descr=""/>
          <p:cNvPicPr/>
          <p:nvPr/>
        </p:nvPicPr>
        <p:blipFill>
          <a:blip r:embed="rId2"/>
          <a:stretch/>
        </p:blipFill>
        <p:spPr>
          <a:xfrm>
            <a:off x="503280" y="1828800"/>
            <a:ext cx="4525920" cy="4572000"/>
          </a:xfrm>
          <a:prstGeom prst="rect">
            <a:avLst/>
          </a:prstGeom>
          <a:ln w="0">
            <a:noFill/>
          </a:ln>
        </p:spPr>
      </p:pic>
      <p:sp>
        <p:nvSpPr>
          <p:cNvPr id="133"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historic Edenton courthous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5" name="" descr=""/>
          <p:cNvPicPr/>
          <p:nvPr/>
        </p:nvPicPr>
        <p:blipFill>
          <a:blip r:embed="rId2"/>
          <a:stretch/>
        </p:blipFill>
        <p:spPr>
          <a:xfrm>
            <a:off x="503280" y="1828800"/>
            <a:ext cx="4425840" cy="4572000"/>
          </a:xfrm>
          <a:prstGeom prst="rect">
            <a:avLst/>
          </a:prstGeom>
          <a:ln w="0">
            <a:noFill/>
          </a:ln>
        </p:spPr>
      </p:pic>
      <p:sp>
        <p:nvSpPr>
          <p:cNvPr id="136"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am standing across the street, but directly in front, of the site where Norcom's house once stood, looking toward Broad Stree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at brick building on the right side of the image, hidden slightly by the yellow house, is the short distance to Jacobs hiding pla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8" name="" descr=""/>
          <p:cNvPicPr/>
          <p:nvPr/>
        </p:nvPicPr>
        <p:blipFill>
          <a:blip r:embed="rId2"/>
          <a:stretch/>
        </p:blipFill>
        <p:spPr>
          <a:xfrm>
            <a:off x="503280" y="2057400"/>
            <a:ext cx="4525920" cy="3886200"/>
          </a:xfrm>
          <a:prstGeom prst="rect">
            <a:avLst/>
          </a:prstGeom>
          <a:ln w="0">
            <a:noFill/>
          </a:ln>
        </p:spPr>
      </p:pic>
      <p:sp>
        <p:nvSpPr>
          <p:cNvPr id="139"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 one structure that is still available for viewing, other than the historic court house, is the jail.”</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felt fortunate to be able to visit this site because it is where Jacobs’ children and brother were held, at Norcom’s request, in the weeks after she disappear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1" name="" descr=""/>
          <p:cNvPicPr/>
          <p:nvPr/>
        </p:nvPicPr>
        <p:blipFill>
          <a:blip r:embed="rId2"/>
          <a:stretch/>
        </p:blipFill>
        <p:spPr>
          <a:xfrm>
            <a:off x="1015920" y="1768320"/>
            <a:ext cx="3402000" cy="4530960"/>
          </a:xfrm>
          <a:prstGeom prst="rect">
            <a:avLst/>
          </a:prstGeom>
          <a:ln w="0">
            <a:noFill/>
          </a:ln>
        </p:spPr>
      </p:pic>
      <p:sp>
        <p:nvSpPr>
          <p:cNvPr id="142" name="PlaceHolder 2"/>
          <p:cNvSpPr>
            <a:spLocks noGrp="1"/>
          </p:cNvSpPr>
          <p:nvPr>
            <p:ph/>
          </p:nvPr>
        </p:nvSpPr>
        <p:spPr>
          <a:xfrm>
            <a:off x="5151600" y="1767960"/>
            <a:ext cx="4425840" cy="4659480"/>
          </a:xfrm>
          <a:prstGeom prst="rect">
            <a:avLst/>
          </a:prstGeom>
          <a:noFill/>
          <a:ln w="0">
            <a:noFill/>
          </a:ln>
        </p:spPr>
        <p:txBody>
          <a:bodyPr lIns="0" rIns="0" tIns="1260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o look into that jail was emotionally moving. The cells seemed stacked in there so tightly, and there was very little room in each cell or within the walk ways between the cells, that is was unfathomable what life was like in there.” </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he bunks were stacked three beds high, were made of steel, and had pads that were only about two inches thick.”</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I just stared in as I thought about Jacobs’ children and how scared they must have been while they were kept the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4" name="" descr=""/>
          <p:cNvPicPr/>
          <p:nvPr/>
        </p:nvPicPr>
        <p:blipFill>
          <a:blip r:embed="rId2"/>
          <a:stretch/>
        </p:blipFill>
        <p:spPr>
          <a:xfrm>
            <a:off x="503280" y="2378160"/>
            <a:ext cx="4425840" cy="3313080"/>
          </a:xfrm>
          <a:prstGeom prst="rect">
            <a:avLst/>
          </a:prstGeom>
          <a:ln w="0">
            <a:noFill/>
          </a:ln>
        </p:spPr>
      </p:pic>
      <p:sp>
        <p:nvSpPr>
          <p:cNvPr id="145"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cemetery where Jacobs' parents and grandmother are buried.</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re, in front of us, was about thirty graves. Each grave was marked by 4′ high white posts (they looked like the legs of a table) absent of names and years of birth and death.”</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7" name="" descr=""/>
          <p:cNvPicPr/>
          <p:nvPr/>
        </p:nvPicPr>
        <p:blipFill>
          <a:blip r:embed="rId2"/>
          <a:stretch/>
        </p:blipFill>
        <p:spPr>
          <a:xfrm>
            <a:off x="527040" y="1828800"/>
            <a:ext cx="4502160" cy="4572000"/>
          </a:xfrm>
          <a:prstGeom prst="rect">
            <a:avLst/>
          </a:prstGeom>
          <a:ln w="0">
            <a:noFill/>
          </a:ln>
        </p:spPr>
      </p:pic>
      <p:sp>
        <p:nvSpPr>
          <p:cNvPr id="14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o could be buried here?</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y the separation?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9:21Z</dcterms:modified>
  <cp:revision>22</cp:revision>
  <dc:subject/>
  <dc:title/>
</cp:coreProperties>
</file>