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D3061-817F-4714-8359-C1E2F8A44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D9890-767F-4048-A978-F50088C6D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5EC5D-C9D5-4813-AF59-A32C7C978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2D5E-6839-4633-A5B2-91B1A7BFC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FB5C0-B374-4D95-A46D-EA90DAAF9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E295F-A11D-4D41-AE85-5AE5B2608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394ED-AC2D-46B7-8C0D-E344DA2E6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B3B7F-44E7-4D8C-88FF-C30BCDB6C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BE370-E9E5-41D2-8867-B8D92B513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2E5F4-3F8C-4364-9985-75044B5A6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05CD2-86D7-44EE-B5DB-80C6FD664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BAC6B-1BA1-4B9E-9F44-CCA8DE5C0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1515B-804D-4AFD-AE1F-90A0AE1A6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77C58-C8D6-4F4F-91CD-0129F7268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812D2-569C-457D-9A65-4690586C6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864D7-3F7C-4CAC-A793-F850D7124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371F3-7697-4F24-A96E-44219443F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A1866-BB8D-40FC-8766-FADF2EC02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5A63B-C812-4918-844E-31991B2FD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E2FB7-D07D-417F-9290-F9F589429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4B6-C845-4F71-B394-B4ABDF37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319-28BD-4905-A456-32B29D7A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A49-AB72-47CB-B5CD-524FED08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CF2-07B3-42E1-B972-EC69F056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A38-23C2-4DD1-A3B4-31BA281E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F3B-D51D-4566-A59E-C0C18EAC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4EE-BC93-479E-92B5-89875769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F3A-DCD8-494B-A7AF-43C678D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A16-852F-4231-AD02-E3570FC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CA6-4CB8-4C53-9D00-2BF0719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188-3DB0-4184-8FF0-9305C03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94F-214D-4C40-8CD6-121BEBE7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B4363-91C2-46B9-9E29-BB952C6EF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620640" y="503280"/>
            <a:ext cx="7925040" cy="62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oetry sampler presentation.  For each of the following poetry elements, include a segment of a poem illustrating the use of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title of the poem, the author, the poem or the segment, the name of the element, and an illustr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next slide as an example of a suitable slide for this assignment.  Feel free to be creative with design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6480" y="351000"/>
            <a:ext cx="4380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3280" y="198360"/>
            <a:ext cx="4457520" cy="701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ny re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hearse d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 hundreds of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ing the sidewalk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hunderb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k the car itsel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king i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ke and fl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xpress the lord’s 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his speci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d fa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Car_fire_in_Lancaster_(2005).jpg"/>
          <p:cNvPicPr/>
          <p:nvPr/>
        </p:nvPicPr>
        <p:blipFill>
          <a:blip r:embed="rId1"/>
          <a:stretch/>
        </p:blipFill>
        <p:spPr>
          <a:xfrm>
            <a:off x="4278240" y="1341360"/>
            <a:ext cx="52945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25:02Z</dcterms:created>
  <dc:creator>VIMSIA </dc:creator>
  <dc:description/>
  <dc:language>en-US</dc:language>
  <cp:lastModifiedBy>Roxanne Price</cp:lastModifiedBy>
  <dcterms:modified xsi:type="dcterms:W3CDTF">2012-01-24T13:33:33Z</dcterms:modified>
  <cp:revision>6</cp:revision>
  <dc:subject/>
  <dc:title>Slide 1</dc:title>
</cp:coreProperties>
</file>