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BF490-B75D-4254-8917-033D258044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8A9CD-7DA6-4E9A-89F7-5853C5AAF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519F9-15CB-4F96-8F0B-7FDBDAB21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B1368-B433-4AB9-B9FE-7376E4008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CC328-FBBE-4A8C-A94F-0CC08417A7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73698-5E6E-42B7-80B7-BA3780752E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FB372-AB35-4698-94B1-81910AE76A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7C1B4-D7F7-4043-9B7F-7C55721D13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804DF-4D73-467F-9719-5242A8349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74C72-ADBA-4BDF-B8D0-754647F5A3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0C75D-8F89-4943-9490-F238045A4F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4642F-9E36-4F87-B022-BF5EFDA1BA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492A0-E95C-4759-8993-7F041B5C03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F5E98-72F2-4135-870B-6663B3D72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366DA-3B00-42F1-9A44-04C44CCE0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AE24E-899F-402A-B215-D88D25F84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D0A98-DD7C-4A77-94FC-CF0E1C1EF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A3B9C-1306-4FB3-AAB0-9FA544D6C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C745D-F558-4F4B-8FFE-7D2BCF6C2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BC8DB-AA78-4A01-8E5B-626F62E778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985-FF16-4B78-AD4D-F5DC15B8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4404-62EA-4830-B633-DBEB3326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1F2-D616-46F2-96EA-432A9996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5953-3495-4A5E-9EDB-5347AAA0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6BE-C587-4125-89D9-B1A1C60F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047-2E37-4F80-A1AA-DAE71ECF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F3F-1FD0-47D5-89BD-C076A225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F28-665B-4D87-8D84-EFB73D33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3F4-AEDF-4DCD-A22C-587D8718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860-7793-4410-B65D-F14420D9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822-EA7B-4409-A8AD-97785DCD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CB81-D3BF-435B-BFCA-9AF1FC7F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B19EE-06C1-4B21-9266-4AFF91B20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620640" y="503280"/>
            <a:ext cx="7925040" cy="62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poetry sampler presentation.  For each of the following poetry elements, include a segment of a poem illustrating the use of the e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the title of the poem, the author, the poem or the segment, the name of the element, and an illustr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i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he next slide as an example of a suitable slide for this assignment.  Feel free to be creative with design el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6480" y="351000"/>
            <a:ext cx="438012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3280" y="198360"/>
            <a:ext cx="4457520" cy="7010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ny ree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Karen H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ghbo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the hearse dr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t hundreds of per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ing the sidewalk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act of go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hunderb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k the car itself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rking it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ke and fl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act of go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ghbo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xpress the lord’s a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t 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his special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d fa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4" descr="Car_fire_in_Lancaster_(2005).jpg"/>
          <p:cNvPicPr/>
          <p:nvPr/>
        </p:nvPicPr>
        <p:blipFill>
          <a:blip r:embed="rId1"/>
          <a:stretch/>
        </p:blipFill>
        <p:spPr>
          <a:xfrm>
            <a:off x="4278240" y="1341360"/>
            <a:ext cx="529452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4:25:02Z</dcterms:created>
  <dc:creator>VIMSIA </dc:creator>
  <dc:description/>
  <dc:language>en-US</dc:language>
  <cp:lastModifiedBy>Roxanne Price</cp:lastModifiedBy>
  <dcterms:modified xsi:type="dcterms:W3CDTF">2012-01-24T13:33:33Z</dcterms:modified>
  <cp:revision>6</cp:revision>
  <dc:subject/>
  <dc:title>Slide 1</dc:title>
</cp:coreProperties>
</file>