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A0125-2FF6-4478-9113-042953F86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76258-B41F-40BF-B7CF-F618DF0A5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EC21C-E868-40A0-AD58-72F77C5AF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95C8-6006-4CC0-940B-1B9A98157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A3B86-1C99-4D06-9E69-2F851BEEB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3880-D6B8-47A2-A433-FF5F25C6C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7C83D-D988-43D0-9507-B49336358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7B049-3E94-49BA-8C92-24AF2712E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A4A6-3456-4014-9FBC-5EF5D2D9B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B7FF-2008-4483-9A28-F6820DA5F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1D68-95BF-476A-9F4F-77D7A5CCC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93E3C-9632-445D-B657-8F82D5F6C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D12F2-7B3D-4B93-8195-82E54021B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CAF5B-22DE-4890-B45F-104585B01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BAB85-D6FE-405B-8CA5-5B5093E84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5A023-422F-47C5-A41A-F78431A98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CE55-925B-4DE7-8E1C-6B78D4FB2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F492-619B-4CD1-A821-21E1CAA09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12132-58A9-46E9-9EB2-AD2E9CB04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73FB4-E8BF-4455-A111-8FE7278A8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A6F-E18D-4614-8C5E-0B21BEEB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E8D-BB25-4786-B6D7-193C2AA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A82-EA14-48A6-BA45-79D29752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40B-892F-4EC2-B240-E24C3463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03F-1AD5-4299-AD34-8848AB62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53B-001F-4F24-8AE5-B363980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082-96DB-44D1-9108-BE13CDC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46F-39C5-4F62-A9EC-BD00BC3F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401-75B9-4ADE-BD0A-B62A0515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C54-1107-4FC0-9567-0F3F8D4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383-07A6-4F36-9FBB-2373357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10A-0158-4D91-B5B4-551C5C3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7DFBF-EE0F-494B-803F-B930BFEE7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620640" y="503280"/>
            <a:ext cx="7925040" cy="62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oetry sampler presentation.  For each of the following poetry elements, include a segment of a poem illustrating the use of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title of the poem, the author, the poem or the segment, the name of the element, and an illustr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next slide as an example of a suitable slide for this assignment.  Feel free to be creative with desig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6480" y="351000"/>
            <a:ext cx="4380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198360"/>
            <a:ext cx="4457520" cy="701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re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hearse dr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 hundreds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ing the sidewalk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hunderb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the car itsel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king i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ke and fl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ct of g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xpress the lord’s 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his speci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d fa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Car_fire_in_Lancaster_(2005).jpg"/>
          <p:cNvPicPr/>
          <p:nvPr/>
        </p:nvPicPr>
        <p:blipFill>
          <a:blip r:embed="rId1"/>
          <a:stretch/>
        </p:blipFill>
        <p:spPr>
          <a:xfrm>
            <a:off x="4278240" y="1341360"/>
            <a:ext cx="52945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25:02Z</dcterms:created>
  <dc:creator>VIMSIA </dc:creator>
  <dc:description/>
  <dc:language>en-US</dc:language>
  <cp:lastModifiedBy>Roxanne Price</cp:lastModifiedBy>
  <dcterms:modified xsi:type="dcterms:W3CDTF">2012-01-24T13:33:33Z</dcterms:modified>
  <cp:revision>6</cp:revision>
  <dc:subject/>
  <dc:title>Slide 1</dc:title>
</cp:coreProperties>
</file>