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7760" cy="37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176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7212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555120"/>
            <a:ext cx="337176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BC0EFB-796A-4C2A-A815-75074DFC189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C8B068-CA76-4A03-8D2A-6CFFE775A99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86E163-9C51-4D73-8DF3-D47EBA0CD96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8ED59A-A6C2-4723-818D-FF1DF4142E9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04261B-6EB4-467F-A147-45CFEF3CCD1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E5DE30-AE49-480B-BDA0-84A93119CA4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EC7D53-E8C1-425B-87DB-8CB58F83CC0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81CB0D-9074-429C-8A90-1B3B010ECE1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F1A7C5-D565-4199-9C92-0EE66C208EB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5038E5-B996-4DCF-BDAE-B2463D1A3D5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63EC2A-73F4-44D6-87A2-C2535693B45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F7F703-B25A-4446-8DF5-8174E720C2A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E71807-2035-4B2D-B52A-D7CBCF20F3B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BFF358-8881-42C6-B91A-485F5CE9757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F86FC2-ACA0-4451-B0B5-49C9F01A38D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C88B91-F4EC-4CF4-8F38-51DE247B2E3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ED4122-64B5-437A-8719-A23EDB88BAF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02E233-EED2-4348-B7FC-80C0DAE9093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94B5A6-9769-4B3F-B568-0FC06DC372E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39D653-7504-4994-8A4B-80A33E06D56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2B0E1-5FEE-4C34-AF54-17D8A9C9D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3D435-A0A1-4838-AFDD-786483F60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9715D-D487-40BB-8C77-C4EB0547A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E1377-508E-429C-BDBB-E0B5B17FB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CE281-2D23-487E-8DA8-9B0F3FDA1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EC739-1A8F-40B9-92DB-D500535FA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F9570-ACCF-4A72-B0FD-ECFFEFC39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957EE-023E-4937-966D-231C4D904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A5B2F-7605-4A74-A722-5B0972970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B2362-41CC-4265-B3DA-83343479B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62E52-E427-45D9-83BB-0EEB07D6C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56BDA-E62B-4154-9FFF-4D9C1B971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28AB962-1F0B-4378-89B1-A74E7D12087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43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58400" cy="755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43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58400" cy="755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Box 4"/>
          <p:cNvSpPr/>
          <p:nvPr/>
        </p:nvSpPr>
        <p:spPr>
          <a:xfrm>
            <a:off x="620640" y="503280"/>
            <a:ext cx="7925040" cy="621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sig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a poetry sampler presentation.  For each of the following poetry elements, include a segment of a poem illustrating the use of the ele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lude the title of the poem, the author, the poem or the segment, the name of the element, and an illustration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emen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e ve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it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ag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gg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aph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omatopoe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son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i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mb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e the next slide as an example of a suitable slide for this assignment.  Feel free to be creative with design elem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43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06480" y="351000"/>
            <a:ext cx="4380120" cy="58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ee Ver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503280" y="198360"/>
            <a:ext cx="4457520" cy="7010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ohnny ree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Karen Hes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ighbor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the hearse dro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st hundreds of pers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ning the sidewalks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 act of god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thunderbol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ruck the car itself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arking it t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ke and flam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 act of god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ighbor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express the lord’s ang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at 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his special childr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d fall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Content Placeholder 4" descr="Car_fire_in_Lancaster_(2005).jpg"/>
          <p:cNvPicPr/>
          <p:nvPr/>
        </p:nvPicPr>
        <p:blipFill>
          <a:blip r:embed="rId1"/>
          <a:stretch/>
        </p:blipFill>
        <p:spPr>
          <a:xfrm>
            <a:off x="4278240" y="1341360"/>
            <a:ext cx="5294520" cy="459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58400" cy="7543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9T14:25:02Z</dcterms:created>
  <dc:creator>VIMSIA </dc:creator>
  <dc:description/>
  <dc:language>en-US</dc:language>
  <cp:lastModifiedBy>Roxanne Price</cp:lastModifiedBy>
  <dcterms:modified xsi:type="dcterms:W3CDTF">2012-01-24T13:33:33Z</dcterms:modified>
  <cp:revision>6</cp:revision>
  <dc:subject/>
  <dc:title>Slide 1</dc:title>
</cp:coreProperties>
</file>