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0CB-9E8F-4AAF-AA0D-24B0FA12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EA9-7DB3-426A-9CA5-719D36DA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6CE-C78F-4CF8-9CD9-98FD2D1D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3E3-178F-4399-9199-1859A375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8CB-DF94-49B7-8104-67D502F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9D4-E3FC-49C2-89FF-4BC953F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89E-0356-41BD-9BDC-BD485D8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4B5-3D1A-4839-9563-91E99AA3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428-3BE8-47AD-89CD-0A42FD5A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4C6-CA3A-467B-A7F0-D51AA9E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E3A-4D28-4A9E-847D-EDB5105D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5B2-AD70-4D06-B5E2-E676B31C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46C1-315F-457C-B608-45DEAE63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23240" y="38088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spectrometry (Test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96960" y="1143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3520" y="114300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(MS) is an analytical technique that measures masses of particles and for determining the elemental composition of a sample or molecu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typical MS proced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ample is loaded onto the MS instrument and undergoes vaporiz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The components of the sample are ionized by one of a variety of methods (e.g., by impacting them with an electron beam), which results in the formation of charged particles (ion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ions are separated in an analyzer by electromagnetic fie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The ions are detected, usually by a quantitative metho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The ion signal is processed into mass spect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94800" y="6094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roduction to Mass Spectrometry (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436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 flipV="1">
            <a:off x="1295280" y="22856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44240" y="26668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p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209680" y="2285640"/>
            <a:ext cx="152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39000" y="33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803680" y="3505320"/>
            <a:ext cx="31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nimize collisions, interfer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42670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26600" y="28195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pa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 flipV="1">
            <a:off x="5333760" y="2286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241240" y="27432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unt 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7315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618600" y="29718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lec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240" y="45720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Introduction Systems (aka “front ends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5720" y="106668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Gas source (light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)  Solid source (heavi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) Inductively coupled plasma (all elements, Li to 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cptorchbox"/>
          <p:cNvPicPr/>
          <p:nvPr/>
        </p:nvPicPr>
        <p:blipFill>
          <a:blip r:embed="rId1"/>
          <a:stretch/>
        </p:blipFill>
        <p:spPr>
          <a:xfrm>
            <a:off x="3505320" y="2362320"/>
            <a:ext cx="4914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4267440" cy="318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cpplasmaphoto"/>
          <p:cNvPicPr/>
          <p:nvPr/>
        </p:nvPicPr>
        <p:blipFill>
          <a:blip r:embed="rId2"/>
          <a:stretch/>
        </p:blipFill>
        <p:spPr>
          <a:xfrm>
            <a:off x="4816440" y="3962520"/>
            <a:ext cx="26510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37840" y="3808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ization occurs in the ‘sourc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8760" y="134316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ectron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50800" y="1981080"/>
            <a:ext cx="37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stream passes through beam of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ions genera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8760" y="425124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rmal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37840" y="4572000"/>
            <a:ext cx="423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ma:  Gas stream passes through plas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ed by RF current and 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7120" y="528624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al:  Filament heated to ~1500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34356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83400" y="53352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Analyzers - the quadrupole vs. magnetic s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981040" y="2739960"/>
            <a:ext cx="2324880" cy="13107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DC and 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s to isol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cheap, fast, eas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sicmassspec"/>
          <p:cNvPicPr/>
          <p:nvPr/>
        </p:nvPicPr>
        <p:blipFill>
          <a:blip r:embed="rId2"/>
          <a:stretch/>
        </p:blipFill>
        <p:spPr>
          <a:xfrm>
            <a:off x="1371600" y="4525920"/>
            <a:ext cx="4114800" cy="2255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572800" y="4648320"/>
            <a:ext cx="2921040" cy="1554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Sect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B and V to foc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nto detec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turn in geometry me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‘dark noise’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ecision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quadscan"/>
          <p:cNvPicPr/>
          <p:nvPr/>
        </p:nvPicPr>
        <p:blipFill>
          <a:blip r:embed="rId1"/>
          <a:stretch/>
        </p:blipFill>
        <p:spPr>
          <a:xfrm>
            <a:off x="685800" y="457200"/>
            <a:ext cx="533412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467000" y="4038480"/>
            <a:ext cx="4171680" cy="2733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6" name="Text Box 6"/>
          <p:cNvSpPr/>
          <p:nvPr/>
        </p:nvSpPr>
        <p:spPr>
          <a:xfrm>
            <a:off x="6048000" y="1044720"/>
            <a:ext cx="2788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5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low concent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nvironmental sample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high interest (why?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ortunately,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has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atomic wt as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NC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7800" y="763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ow vs. High – resolution ICPMS and Interfere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719320" y="4356000"/>
            <a:ext cx="289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R-ICP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istinguish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from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most elements can 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inguished with a 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quadrupo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ion_microprobe_schematic.gif"/>
          <p:cNvPicPr/>
          <p:nvPr/>
        </p:nvPicPr>
        <p:blipFill>
          <a:blip r:embed="rId1"/>
          <a:stretch/>
        </p:blipFill>
        <p:spPr>
          <a:xfrm>
            <a:off x="2819520" y="0"/>
            <a:ext cx="6337080" cy="5943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2"/>
          <p:cNvSpPr/>
          <p:nvPr/>
        </p:nvSpPr>
        <p:spPr>
          <a:xfrm>
            <a:off x="365400" y="152280"/>
            <a:ext cx="221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 micropro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289080" y="2743200"/>
            <a:ext cx="2987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n ion beam (usually Cs+1) to “sputter” a sample surface; secondary ions fed into mass s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613188-sims_zirconBSE.jpg"/>
          <p:cNvPicPr/>
          <p:nvPr/>
        </p:nvPicPr>
        <p:blipFill>
          <a:blip r:embed="rId2"/>
          <a:stretch/>
        </p:blipFill>
        <p:spPr>
          <a:xfrm>
            <a:off x="-228600" y="3886200"/>
            <a:ext cx="33400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143000" y="5410080"/>
            <a:ext cx="380880" cy="4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996120" y="5072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μ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newams"/>
          <p:cNvPicPr/>
          <p:nvPr/>
        </p:nvPicPr>
        <p:blipFill>
          <a:blip r:embed="rId1"/>
          <a:stretch/>
        </p:blipFill>
        <p:spPr>
          <a:xfrm>
            <a:off x="533520" y="990720"/>
            <a:ext cx="7985160" cy="149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517320" y="38088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ccelerator Mass 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24720" y="2438280"/>
            <a:ext cx="28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University of Arizona (3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6200" y="2617920"/>
            <a:ext cx="693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 to AMS samples were 14C-dated by counting the number of dec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quired large samples and long analysis ti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977:  Nelson et al. and Bennett et al. publish papers in Science demonst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tility of attaching an accelerator to a conventional mass spectro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big_ams_llnl"/>
          <p:cNvPicPr/>
          <p:nvPr/>
        </p:nvPicPr>
        <p:blipFill>
          <a:blip r:embed="rId2"/>
          <a:stretch/>
        </p:blipFill>
        <p:spPr>
          <a:xfrm>
            <a:off x="685800" y="3962520"/>
            <a:ext cx="380988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4417560" y="640080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LLNL (10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124160" y="4038480"/>
            <a:ext cx="5191560" cy="204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not quantitatively remove interfer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s to look for one 14C atom among sever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illion C ato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, yo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molecular ions (foil or g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by the energy of the ions (detec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parate the needle in the hay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23600" y="990720"/>
            <a:ext cx="667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Dark Noise - detector will register signal even without an ion b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vacuum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detector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measure prior to run to get “instrument blank” if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91920" y="2784600"/>
            <a:ext cx="759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Detector “gain” - what is the relationship between the electronic signal record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detector  and the number of ions that it has count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ually close to 1 after factory calib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anges as detector “ag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quantify with stand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96600" y="4551480"/>
            <a:ext cx="6758280" cy="1067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inal rule of mass spectrometr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measurements are only as good as your STANDARD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(both concentration and isotopic) can be purchased from N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6520" y="3808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rdles in mass spectrometry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21:14Z</dcterms:created>
  <dc:creator>Kc</dc:creator>
  <dc:description/>
  <dc:language>en-US</dc:language>
  <cp:lastModifiedBy>Roxanne Price</cp:lastModifiedBy>
  <dcterms:modified xsi:type="dcterms:W3CDTF">2012-03-14T17:56:27Z</dcterms:modified>
  <cp:revision>1550</cp:revision>
  <dc:subject/>
  <dc:title>PowerPoint Presentation</dc:title>
</cp:coreProperties>
</file>