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380-111C-4334-9CAA-A06C3255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D59-9B4D-4B08-82D6-2C73A0A2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E6B-269E-4D24-B3E8-A41035B4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A6C-A200-478E-AEE3-72FD112E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742-A1A6-405A-827C-357A16D3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91D-EEE3-4893-BDD2-27E559AF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F7E-FDFD-4D26-99C1-E4D12108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3AB-0579-4C43-B0F0-A4D2039F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C72-18FB-4C54-81AF-4BAFAF7F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9E6D-AD0F-4558-8521-278E53F4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418-FE95-4E0D-A883-0599A6D9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ED3-16E7-40E2-9135-CD60C90B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9942-4BCF-4D4F-9786-1D4E10FAD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23240" y="38088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 spectrometry (Test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96960" y="1143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33520" y="1143000"/>
            <a:ext cx="777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s spectrome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(MS) is an analytical technique that measures masses of particles and for determining the elemental composition of a sample or molecul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typical MS proced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ample is loaded onto the MS instrument and undergoes vaporiz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The components of the sample are ionized by one of a variety of methods (e.g., by impacting them with an electron beam), which results in the formation of charged particles (ion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he ions are separated in an analyzer by electromagnetic field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The ions are detected, usually by a quantitative metho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The ion signal is processed into mass spectr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94800" y="60948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roduction to Mass Spectrometry (T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43640" cy="1886040"/>
          </a:xfrm>
          <a:prstGeom prst="rect">
            <a:avLst/>
          </a:prstGeom>
          <a:ln w="0">
            <a:noFill/>
          </a:ln>
        </p:spPr>
      </p:pic>
      <p:sp>
        <p:nvSpPr>
          <p:cNvPr id="46" name="Line 4"/>
          <p:cNvSpPr/>
          <p:nvPr/>
        </p:nvSpPr>
        <p:spPr>
          <a:xfrm flipV="1">
            <a:off x="1295280" y="228564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44240" y="2666880"/>
            <a:ext cx="123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amp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V="1">
            <a:off x="2209680" y="2285640"/>
            <a:ext cx="152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539000" y="33210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on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803680" y="3505320"/>
            <a:ext cx="31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inimize collisions, interfere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42670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026600" y="281952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epa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a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 flipH="1" flipV="1">
            <a:off x="5333760" y="22860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241240" y="274320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unt 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V="1">
            <a:off x="73152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6618600" y="297180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llect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4240" y="457200"/>
            <a:ext cx="65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Introduction Systems (aka “front ends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05720" y="1066680"/>
            <a:ext cx="483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Gas source (lighter elem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)  Solid source (heavier elem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) Inductively coupled plasma (all elements, Li to U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cptorchbox"/>
          <p:cNvPicPr/>
          <p:nvPr/>
        </p:nvPicPr>
        <p:blipFill>
          <a:blip r:embed="rId1"/>
          <a:stretch/>
        </p:blipFill>
        <p:spPr>
          <a:xfrm>
            <a:off x="3505320" y="2362320"/>
            <a:ext cx="4914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4267440" cy="3189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icpplasmaphoto"/>
          <p:cNvPicPr/>
          <p:nvPr/>
        </p:nvPicPr>
        <p:blipFill>
          <a:blip r:embed="rId2"/>
          <a:stretch/>
        </p:blipFill>
        <p:spPr>
          <a:xfrm>
            <a:off x="4816440" y="3962520"/>
            <a:ext cx="2651040" cy="2560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537840" y="38088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ization occurs in the ‘source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8760" y="134316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lectron Io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50800" y="1981080"/>
            <a:ext cx="37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 stream passes through beam of 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ions genera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08760" y="425124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rmal Io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37840" y="4572000"/>
            <a:ext cx="423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sma:  Gas stream passes through plas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ed by RF current and 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37120" y="5286240"/>
            <a:ext cx="34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al:  Filament heated to ~1500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6343560" cy="333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83400" y="533520"/>
            <a:ext cx="73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 Analyzers - the quadrupole vs. magnetic s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981040" y="2739960"/>
            <a:ext cx="2324880" cy="131076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uadrupo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DC and 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ages to isol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iven m/z 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:  cheap, fast, eas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basicmassspec"/>
          <p:cNvPicPr/>
          <p:nvPr/>
        </p:nvPicPr>
        <p:blipFill>
          <a:blip r:embed="rId2"/>
          <a:stretch/>
        </p:blipFill>
        <p:spPr>
          <a:xfrm>
            <a:off x="1371600" y="4525920"/>
            <a:ext cx="4114800" cy="2255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5572800" y="4648320"/>
            <a:ext cx="2921040" cy="15541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gnetic Sector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B and V to foc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iven m/z into detec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:  turn in geometry me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 ‘dark noise’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ecision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quadscan"/>
          <p:cNvPicPr/>
          <p:nvPr/>
        </p:nvPicPr>
        <p:blipFill>
          <a:blip r:embed="rId1"/>
          <a:stretch/>
        </p:blipFill>
        <p:spPr>
          <a:xfrm>
            <a:off x="685800" y="457200"/>
            <a:ext cx="533412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1467000" y="4038480"/>
            <a:ext cx="4171680" cy="2733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6" name="Text Box 6"/>
          <p:cNvSpPr/>
          <p:nvPr/>
        </p:nvSpPr>
        <p:spPr>
          <a:xfrm>
            <a:off x="6048000" y="1044720"/>
            <a:ext cx="2788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56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low concent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environmental samples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high interest (why?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fortunately,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 has t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atomic wt as A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upo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asurement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NCE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07800" y="76320"/>
            <a:ext cx="71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ow vs. High – resolution ICPMS and Interferenc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719320" y="4356000"/>
            <a:ext cx="2899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R-ICP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asurement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distinguish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 from A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most elements can b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inguished with a l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lution quadrupo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ion_microprobe_schematic.gif"/>
          <p:cNvPicPr/>
          <p:nvPr/>
        </p:nvPicPr>
        <p:blipFill>
          <a:blip r:embed="rId1"/>
          <a:stretch/>
        </p:blipFill>
        <p:spPr>
          <a:xfrm>
            <a:off x="2819520" y="0"/>
            <a:ext cx="6337080" cy="5943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2"/>
          <p:cNvSpPr/>
          <p:nvPr/>
        </p:nvSpPr>
        <p:spPr>
          <a:xfrm>
            <a:off x="365400" y="152280"/>
            <a:ext cx="221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 micropro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ectr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289080" y="2743200"/>
            <a:ext cx="29876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n ion beam (usually Cs+1) to “sputter” a sample surface; secondary ions fed into mass spe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3613188-sims_zirconBSE.jpg"/>
          <p:cNvPicPr/>
          <p:nvPr/>
        </p:nvPicPr>
        <p:blipFill>
          <a:blip r:embed="rId2"/>
          <a:stretch/>
        </p:blipFill>
        <p:spPr>
          <a:xfrm>
            <a:off x="-228600" y="3886200"/>
            <a:ext cx="3340080" cy="2666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1143000" y="5410080"/>
            <a:ext cx="380880" cy="4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996120" y="5072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μ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newams"/>
          <p:cNvPicPr/>
          <p:nvPr/>
        </p:nvPicPr>
        <p:blipFill>
          <a:blip r:embed="rId1"/>
          <a:stretch/>
        </p:blipFill>
        <p:spPr>
          <a:xfrm>
            <a:off x="533520" y="990720"/>
            <a:ext cx="7985160" cy="1493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517320" y="38088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ccelerator Mass Spectr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724720" y="2438280"/>
            <a:ext cx="28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S at University of Arizona (3MV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36200" y="2617920"/>
            <a:ext cx="6932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 to AMS samples were 14C-dated by counting the number of dec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equired large samples and long analysis tim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977:  Nelson et al. and Bennett et al. publish papers in Science demonst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tility of attaching an accelerator to a conventional mass spectrome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big_ams_llnl"/>
          <p:cNvPicPr/>
          <p:nvPr/>
        </p:nvPicPr>
        <p:blipFill>
          <a:blip r:embed="rId2"/>
          <a:stretch/>
        </p:blipFill>
        <p:spPr>
          <a:xfrm>
            <a:off x="685800" y="3962520"/>
            <a:ext cx="3809880" cy="2600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4417560" y="6400800"/>
            <a:ext cx="193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S at LLNL (10MV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124160" y="4038480"/>
            <a:ext cx="5191560" cy="2040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not quantitatively remove interferr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ns to look for one 14C atom among sever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illion C atom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, you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roy molecular ions (foil or ga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ter by the energy of the ions (detec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eparate the needle in the haystac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23600" y="990720"/>
            <a:ext cx="6677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Dark Noise - detector will register signal even without an ion be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vacuum is perf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detector is perf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measure prior to run to get “instrument blank” if nee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91920" y="2784600"/>
            <a:ext cx="7593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Detector “gain” - what is the relationship between the electronic signal recorde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detector  and the number of ions that it has counted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ually close to 1 after factory calib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anges as detector “age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quantify with standa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96600" y="4551480"/>
            <a:ext cx="6758280" cy="1067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dinal rule of mass spectrometr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measurements are only as good as your STANDARDS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s (both concentration and isotopic) can be purchased from NI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6520" y="38088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urdles in mass spectrometry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8:21:14Z</dcterms:created>
  <dc:creator>Kc</dc:creator>
  <dc:description/>
  <dc:language>en-US</dc:language>
  <cp:lastModifiedBy>Roxanne Price</cp:lastModifiedBy>
  <dcterms:modified xsi:type="dcterms:W3CDTF">2012-03-14T17:56:27Z</dcterms:modified>
  <cp:revision>1550</cp:revision>
  <dc:subject/>
  <dc:title>PowerPoint Presentation</dc:title>
</cp:coreProperties>
</file>