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5BB-1CE2-4F94-A6E3-F142C790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63C-196D-4451-98BD-627330F4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B1B-C4B1-4B94-8DA6-477D793F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614-177D-4DBD-8707-5031CF86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F7E-4157-4F1C-B922-44738146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7E6-46D3-4E2B-8723-2472959E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DC3-208C-415D-9879-863C100D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6E8-5677-493B-AC93-B318E0D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173-B777-49A1-83FA-943BE34E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26F-49A0-4481-9358-9C31269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CB4-B01B-49F1-B39B-A694E10E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0F9-D48F-4FB8-A825-9503827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9686-A5E8-49D6-A83E-23E14E99D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23240" y="38088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spectrometry (Test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96960" y="1143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33520" y="114300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(MS) is an analytical technique that measures masses of particles and for determining the elemental composition of a sample or molecu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typical MS proced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ample is loaded onto the MS instrument and undergoes vaporiz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The components of the sample are ionized by one of a variety of methods (e.g., by impacting them with an electron beam), which results in the formation of charged particles (ion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he ions are separated in an analyzer by electromagnetic fiel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The ions are detected, usually by a quantitative metho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The ion signal is processed into mass spectr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94800" y="60948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roduction to Mass Spectrometry (T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436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 flipV="1">
            <a:off x="1295280" y="22856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44240" y="266688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p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209680" y="2285640"/>
            <a:ext cx="152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539000" y="3321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803680" y="3505320"/>
            <a:ext cx="31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inimize collisions, interfer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42670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26600" y="2819520"/>
            <a:ext cx="10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pa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H="1" flipV="1">
            <a:off x="5333760" y="2286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241240" y="27432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unt 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73152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618600" y="29718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llec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4240" y="45720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Introduction Systems (aka “front ends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5720" y="1066680"/>
            <a:ext cx="48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Gas source (light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)  Solid source (heavier ele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) Inductively coupled plasma (all elements, Li to 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cptorchbox"/>
          <p:cNvPicPr/>
          <p:nvPr/>
        </p:nvPicPr>
        <p:blipFill>
          <a:blip r:embed="rId1"/>
          <a:stretch/>
        </p:blipFill>
        <p:spPr>
          <a:xfrm>
            <a:off x="3505320" y="2362320"/>
            <a:ext cx="4914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4267440" cy="318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cpplasmaphoto"/>
          <p:cNvPicPr/>
          <p:nvPr/>
        </p:nvPicPr>
        <p:blipFill>
          <a:blip r:embed="rId2"/>
          <a:stretch/>
        </p:blipFill>
        <p:spPr>
          <a:xfrm>
            <a:off x="4816440" y="3962520"/>
            <a:ext cx="26510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37840" y="3808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ization occurs in the ‘source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8760" y="134316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ectron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50800" y="1981080"/>
            <a:ext cx="37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stream passes through beam of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ions genera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08760" y="425124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rmal I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37840" y="4572000"/>
            <a:ext cx="423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ma:  Gas stream passes through plas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ed by RF current and 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7120" y="5286240"/>
            <a:ext cx="34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al:  Filament heated to ~1500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343560" cy="333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83400" y="53352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 Analyzers - the quadrupole vs. magnetic s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981040" y="2739960"/>
            <a:ext cx="2324880" cy="131076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DC and 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s to isol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cheap, fast, eas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asicmassspec"/>
          <p:cNvPicPr/>
          <p:nvPr/>
        </p:nvPicPr>
        <p:blipFill>
          <a:blip r:embed="rId2"/>
          <a:stretch/>
        </p:blipFill>
        <p:spPr>
          <a:xfrm>
            <a:off x="1371600" y="4525920"/>
            <a:ext cx="4114800" cy="2255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572800" y="4648320"/>
            <a:ext cx="2921040" cy="15541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Sect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B and V to foc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iven m/z into detect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:  turn in geometry me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‘dark noise’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ecision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quadscan"/>
          <p:cNvPicPr/>
          <p:nvPr/>
        </p:nvPicPr>
        <p:blipFill>
          <a:blip r:embed="rId1"/>
          <a:stretch/>
        </p:blipFill>
        <p:spPr>
          <a:xfrm>
            <a:off x="685800" y="457200"/>
            <a:ext cx="533412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467000" y="4038480"/>
            <a:ext cx="4171680" cy="2733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6" name="Text Box 6"/>
          <p:cNvSpPr/>
          <p:nvPr/>
        </p:nvSpPr>
        <p:spPr>
          <a:xfrm>
            <a:off x="6048000" y="1044720"/>
            <a:ext cx="2788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5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low concent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nvironmental sample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high interest (why?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ortunately,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has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atomic wt as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up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NC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7800" y="763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ow vs. High – resolution ICPMS and Interfere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719320" y="4356000"/>
            <a:ext cx="289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R-ICP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asurement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istinguish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 from 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most elements can 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inguished with a l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quadrupo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ion_microprobe_schematic.gif"/>
          <p:cNvPicPr/>
          <p:nvPr/>
        </p:nvPicPr>
        <p:blipFill>
          <a:blip r:embed="rId1"/>
          <a:stretch/>
        </p:blipFill>
        <p:spPr>
          <a:xfrm>
            <a:off x="2819520" y="0"/>
            <a:ext cx="6337080" cy="5943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2"/>
          <p:cNvSpPr/>
          <p:nvPr/>
        </p:nvSpPr>
        <p:spPr>
          <a:xfrm>
            <a:off x="365400" y="152280"/>
            <a:ext cx="221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 micropro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289080" y="2743200"/>
            <a:ext cx="2987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n ion beam (usually Cs+1) to “sputter” a sample surface; secondary ions fed into mass s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613188-sims_zirconBSE.jpg"/>
          <p:cNvPicPr/>
          <p:nvPr/>
        </p:nvPicPr>
        <p:blipFill>
          <a:blip r:embed="rId2"/>
          <a:stretch/>
        </p:blipFill>
        <p:spPr>
          <a:xfrm>
            <a:off x="-228600" y="3886200"/>
            <a:ext cx="33400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143000" y="5410080"/>
            <a:ext cx="380880" cy="4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996120" y="5072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μ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newams"/>
          <p:cNvPicPr/>
          <p:nvPr/>
        </p:nvPicPr>
        <p:blipFill>
          <a:blip r:embed="rId1"/>
          <a:stretch/>
        </p:blipFill>
        <p:spPr>
          <a:xfrm>
            <a:off x="533520" y="990720"/>
            <a:ext cx="7985160" cy="1493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517320" y="38088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ccelerator Mass Spectr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24720" y="2438280"/>
            <a:ext cx="28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University of Arizona (3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36200" y="2617920"/>
            <a:ext cx="693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 to AMS samples were 14C-dated by counting the number of dec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quired large samples and long analysis tim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977:  Nelson et al. and Bennett et al. publish papers in Science demonst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tility of attaching an accelerator to a conventional mass spectro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big_ams_llnl"/>
          <p:cNvPicPr/>
          <p:nvPr/>
        </p:nvPicPr>
        <p:blipFill>
          <a:blip r:embed="rId2"/>
          <a:stretch/>
        </p:blipFill>
        <p:spPr>
          <a:xfrm>
            <a:off x="685800" y="3962520"/>
            <a:ext cx="380988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4417560" y="640080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S at LLNL (10MV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124160" y="4038480"/>
            <a:ext cx="5191560" cy="2040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not quantitatively remove interfer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s to look for one 14C atom among sever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illion C ato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, yo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molecular ions (foil or g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 by the energy of the ions (detec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parate the needle in the haysta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23600" y="990720"/>
            <a:ext cx="667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Dark Noise - detector will register signal even without an ion be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vacuum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detector is per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measure prior to run to get “instrument blank” if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91920" y="2784600"/>
            <a:ext cx="7593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Detector “gain” - what is the relationship between the electronic signal record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detector  and the number of ions that it has count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ually close to 1 after factory calib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anges as detector “ag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quantify with standa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96600" y="4551480"/>
            <a:ext cx="6758280" cy="1067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inal rule of mass spectrometr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measurements are only as good as your STANDARD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(both concentration and isotopic) can be purchased from N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6520" y="3808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rdles in mass spectrometry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8:21:14Z</dcterms:created>
  <dc:creator>Kc</dc:creator>
  <dc:description/>
  <dc:language>en-US</dc:language>
  <cp:lastModifiedBy>Roxanne Price</cp:lastModifiedBy>
  <dcterms:modified xsi:type="dcterms:W3CDTF">2012-03-14T17:56:27Z</dcterms:modified>
  <cp:revision>1550</cp:revision>
  <dc:subject/>
  <dc:title>PowerPoint Presentation</dc:title>
</cp:coreProperties>
</file>